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C224-BB55-4CAA-A4FE-1E819EE7A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847B-3058-4BA8-9593-B6DECB5AB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has thre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brings the instruction from the main memory into the internal registers of the CPU, called Fetch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identifies what instruction is – the Decod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ponent that signals the other parts of the computer to execute th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unter register contains the memory address of the instruction is currently processing. The program counter register is incremented in the fetch stage (so it is very often referred as holding the next instructio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 Register holds the current instruction, once it has been fetched from the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achine is initially started, the PC is loaded with the address of the first instruction to be executed (usually a hardwired address). There many variations on how the computing system can start. One usual way is where the memory (usually ROM) will contain initialization code and a program called bootstrap loader that will load the operating system from a peripheral storage or from the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7C5B-981E-4055-9E61-7DA61DCF8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ck name comes from the fact that the data structure acts like a stack of plates (or other items). When a new plate is put on a stack of plates, it goes on the top, and it is the first plate to be removed when someone take a plate off the stack. The stack consists of locations, each of which can hold a word of da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29F4-2D44-40D5-8DED-E1F31E4E3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overflow will occur if the top of the stack pointer will reach the stack limit. In our example, the size of the stack is 64 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op of the stack pointer and the bottom of the stack are the same, the stack is empty, and an attempt to pop any data will result in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tions of this approach are possible, where the bottom of the stack points to the highest address of allocated buffer, and the stack grows towards the lower address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5C29-DFE6-490A-86FA-33987204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ure memory implementation for the stack, the ADD instruction (for example), would take about 4 memory addressing to complete (one for fetching the instruction, two to bring in the operands and another one to save the result). A better implementation is presented in this slide, where the last N pushed elements are preserved inside the processor, in the register fi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930E-6C68-4396-BADE-205097796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b : The value of b is plac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memory location whose address is contain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nstant valu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for describing the branch instru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4FBC-3899-44BD-ADEC-398D966F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left of the expression, each constant is pushed into the stack, and each operator is replaced by appropriate instruc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D692-0DD5-442B-8DCF-B0F443D75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ing is sometime used to improve performanc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2676-FEA6-40F6-9908-584A76AE4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systems can be divided into three subsystems: the processor (known also as CPU), the memory and the Input/Output subsystem. The processor is responsible for executing programs, the memory is responsible for storage space for programs and data they reference and the I/O subsystem allows the processor to control devices that interact with outside world (such as CDROM, Monitor, Keyboar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32C5-5DDC-4DF4-B7D3-AB9D37174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is called, the contents of the calling program’s register file are copied into the stack frame along with its return address and the inputs to the procedure. The procedure is using the rest of the stack frames for its local data. Since the amount of inputs and local data is different from procedure to procedure, each stack frame is different too. The arrangement of data within the stack frame is also variable from programming system to programm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finishes, it jumps to the return address contained in the stack and execution of the calling program resumes. The calling program reads its saved register file and handles the procedure’s result, which can be passed either in a register or through the stack too.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7FD4-5336-4438-A5CB-32BEE5CE4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gram makes nested procedure calls (procedures that call other procedures), each nested procedure allocates its stack frame in the top of those already in the stack. As long as the stack doesn’t overflow, the nesting can be done as deeply as necessar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E57A-8C65-4D49-B635-88EAF0864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most computer systems, the processor has a single data buss that connects to a switch module, such as the PCI bridge found in many PC systems. Some processors do integrate the switch module onto the same chipset as the processor itself, to reduce the number of systems required to build a computer system, and thus the system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witch communicates with the memory through a memory bus, a dedicated set of wires that transfer data between these two systems. A separate I/O bus connects the switch to the I/O devices. Separate memory and I/O buses are used because the I/O system is generally designed for maximum flexibility while the memory system is design for maximum speed. The goal of the I/O bus is to allow for a large number of different devices to be connected to the processor, while the memory system is designed for maximum throughpu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ium is using an von Neumann architecture for the external memory and is using a Harvard architecture for its internal cache memory (allowing 8KB of cache for data and anther (separate) 8kB of cache for instructions</a:t>
            </a:r>
            <a:endParaRPr b="0" lang="en-US" sz="1200" spc="-1" strike="noStrike">
              <a:solidFill>
                <a:srgbClr val="000000"/>
              </a:solidFill>
              <a:latin typeface="Times New Roman"/>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729C-3192-4537-851D-E7E5DCEAA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2EF5-C852-4D4B-97BE-B7E84C559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cessor is made up of execution unit(s), control unit and register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keeps the address of the next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 (instruction register) keeps the instruction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4E0F-0277-4DBF-8B3C-558B73E62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 – performs various arithmetic and logic operations (such as add, multiply, etc..) on binary representation of numbers (integers or floating point numbers). Computations are performed by loading the values into general purpose registers, perform the arithmetic on the registers and then saving the results back into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registers are used by various parts of the CPU to store status of the operations. One of the roles of the status registers is to hold data where CPU keeps information about the computations being executed (such as the result of the last function unit operation was ze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DCD6-5063-4F5F-B82F-75BA3A406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E71AB-FE7D-47D9-B822-9B761CD9D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DBADA-E1F4-4320-999B-41CAFB2A1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5937-18E5-4A91-A50E-24A51AE70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411B-9DF0-4155-BEE2-965B755D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49D5-CBBF-410F-95E5-39486A150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74D1-FE13-4EA7-B98F-0856D8E4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273C9-4EA4-459D-957E-8E7DB6AA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E7FA-20E3-417A-B4A3-03E19C77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2A9E-D18B-4797-B078-56A93CBD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C699-40F7-498C-9CDC-A02F5BEF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88FC-5604-4D18-9785-E73B3A218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B529-71BA-4914-B7E8-D32BBEC68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Review and Programming Model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Unit</a:t>
            </a:r>
            <a:endParaRPr b="0" lang="en-US" sz="4400" spc="-1" strike="noStrike">
              <a:solidFill>
                <a:srgbClr val="000000"/>
              </a:solidFill>
              <a:latin typeface="Times New Roman"/>
            </a:endParaRPr>
          </a:p>
        </p:txBody>
      </p:sp>
      <p:sp>
        <p:nvSpPr>
          <p:cNvPr id="71"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unit controls the execution of the instructions stored in the main memory (retrieve and execute th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4"/>
          <p:cNvGraphicFramePr/>
          <p:nvPr/>
        </p:nvGraphicFramePr>
        <p:xfrm>
          <a:off x="533520" y="1219320"/>
          <a:ext cx="8458200" cy="3857400"/>
        </p:xfrm>
        <a:graphic>
          <a:graphicData uri="http://schemas.openxmlformats.org/presentationml/2006/ole">
            <p:oleObj r:id="rId1" spid="">
              <p:embed/>
              <p:pic>
                <p:nvPicPr>
                  <p:cNvPr id="73" name="Object 4" descr=""/>
                  <p:cNvPicPr/>
                  <p:nvPr/>
                </p:nvPicPr>
                <p:blipFill>
                  <a:blip r:embed="rId2"/>
                  <a:stretch/>
                </p:blipFill>
                <p:spPr>
                  <a:xfrm>
                    <a:off x="533520" y="1219320"/>
                    <a:ext cx="84582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Models</a:t>
            </a:r>
            <a:endParaRPr b="0" lang="en-US" sz="4400" spc="-1" strike="noStrike">
              <a:solidFill>
                <a:srgbClr val="000000"/>
              </a:solidFill>
              <a:latin typeface="Times New Roman"/>
            </a:endParaRPr>
          </a:p>
        </p:txBody>
      </p:sp>
      <p:sp>
        <p:nvSpPr>
          <p:cNvPr id="7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or programming model defines how instructions access their operands and how instructions are described in processor’s assembly langua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s with different programming models can offer similar set of operations but may require very different approaches to programm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study two different processor architectures and will learn what differences in programming pose stack vs GPR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 Based Architectures</a:t>
            </a: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Stack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in a stack based architect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based architecture instruction s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in stack 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ck (1)</a:t>
            </a:r>
            <a:endParaRPr b="0" lang="en-US" sz="4400" spc="-1" strike="noStrike">
              <a:solidFill>
                <a:srgbClr val="000000"/>
              </a:solidFill>
              <a:latin typeface="Times New Roman"/>
            </a:endParaRPr>
          </a:p>
        </p:txBody>
      </p:sp>
      <p:sp>
        <p:nvSpPr>
          <p:cNvPr id="7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last in first out (LIFO) data stru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s of locations, each of which can hold a word of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used explicitly to save/restore data</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two oper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 takes one argument and places the value of the argument in the top of the st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 – removes one element from the stack, saving it into a predefined register of the processor</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d implicitly by procedure call instructions (if available in the instruction 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ck (2)</a:t>
            </a:r>
            <a:endParaRPr b="0" lang="en-US" sz="4400" spc="-1" strike="noStrike">
              <a:solidFill>
                <a:srgbClr val="000000"/>
              </a:solidFill>
              <a:latin typeface="Times New Roman"/>
            </a:endParaRPr>
          </a:p>
        </p:txBody>
      </p:sp>
      <p:sp>
        <p:nvSpPr>
          <p:cNvPr id="81" name="PlaceHolder 2"/>
          <p:cNvSpPr>
            <a:spLocks noGrp="1"/>
          </p:cNvSpPr>
          <p:nvPr>
            <p:ph/>
          </p:nvPr>
        </p:nvSpPr>
        <p:spPr>
          <a:xfrm>
            <a:off x="0" y="1066320"/>
            <a:ext cx="9144000" cy="35816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 data is added to the stack, it is placed at the top of the stack, and all the contents of the stack is pushed down one loc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8</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2" name="Object 8"/>
          <p:cNvGraphicFramePr/>
          <p:nvPr/>
        </p:nvGraphicFramePr>
        <p:xfrm>
          <a:off x="0" y="4495680"/>
          <a:ext cx="9144000" cy="1758960"/>
        </p:xfrm>
        <a:graphic>
          <a:graphicData uri="http://schemas.openxmlformats.org/presentationml/2006/ole">
            <p:oleObj r:id="rId1" spid="">
              <p:embed/>
              <p:pic>
                <p:nvPicPr>
                  <p:cNvPr id="83" name="Object 8" descr=""/>
                  <p:cNvPicPr/>
                  <p:nvPr/>
                </p:nvPicPr>
                <p:blipFill>
                  <a:blip r:embed="rId2"/>
                  <a:stretch/>
                </p:blipFill>
                <p:spPr>
                  <a:xfrm>
                    <a:off x="0" y="4495680"/>
                    <a:ext cx="9144000" cy="17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Stacks</a:t>
            </a:r>
            <a:endParaRPr b="0" lang="en-US" sz="4400" spc="-1" strike="noStrike">
              <a:solidFill>
                <a:srgbClr val="000000"/>
              </a:solidFill>
              <a:latin typeface="Times New Roman"/>
            </a:endParaRPr>
          </a:p>
        </p:txBody>
      </p:sp>
      <p:sp>
        <p:nvSpPr>
          <p:cNvPr id="85" name="PlaceHolder 2"/>
          <p:cNvSpPr>
            <a:spLocks noGrp="1"/>
          </p:cNvSpPr>
          <p:nvPr>
            <p:ph/>
          </p:nvPr>
        </p:nvSpPr>
        <p:spPr>
          <a:xfrm>
            <a:off x="0" y="1218960"/>
            <a:ext cx="9144000" cy="51051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hardware stack</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a hardware limitation, (i.e. 8 locations for an SX controll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fa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mplemented stack</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by the physical  memory of the syste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 compared with hardware stack, since extra memory addressing has to take place for each stack operation</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ack overflows</a:t>
            </a:r>
            <a:r>
              <a:rPr b="0" lang="en-US" sz="2400" spc="-1" strike="noStrike">
                <a:solidFill>
                  <a:srgbClr val="000000"/>
                </a:solidFill>
                <a:latin typeface="Times New Roman"/>
              </a:rPr>
              <a:t> can occur in both implementation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mount of data in the stack exceeds the amount of space allocated to the stack (or the hardware limit of the 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 Implemented in Memory</a:t>
            </a:r>
            <a:endParaRPr b="0" lang="en-US" sz="4400" spc="-1" strike="noStrike">
              <a:solidFill>
                <a:srgbClr val="000000"/>
              </a:solidFill>
              <a:latin typeface="Times New Roman"/>
            </a:endParaRPr>
          </a:p>
        </p:txBody>
      </p:sp>
      <p:sp>
        <p:nvSpPr>
          <p:cNvPr id="87"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ush operation will increment the top of the stack pointer (with the word size of the machine); Every pop operation will decrement the top of the stack pointer</a:t>
            </a:r>
            <a:endParaRPr b="0" lang="en-US" sz="2400" spc="-1" strike="noStrike">
              <a:solidFill>
                <a:srgbClr val="000000"/>
              </a:solidFill>
              <a:latin typeface="Times New Roman"/>
            </a:endParaRPr>
          </a:p>
        </p:txBody>
      </p:sp>
      <p:graphicFrame>
        <p:nvGraphicFramePr>
          <p:cNvPr id="88" name="Object 4"/>
          <p:cNvGraphicFramePr/>
          <p:nvPr/>
        </p:nvGraphicFramePr>
        <p:xfrm>
          <a:off x="457200" y="914400"/>
          <a:ext cx="7620120" cy="4734000"/>
        </p:xfrm>
        <a:graphic>
          <a:graphicData uri="http://schemas.openxmlformats.org/presentationml/2006/ole">
            <p:oleObj r:id="rId1" spid="">
              <p:embed/>
              <p:pic>
                <p:nvPicPr>
                  <p:cNvPr id="89" name="Object 4" descr=""/>
                  <p:cNvPicPr/>
                  <p:nvPr/>
                </p:nvPicPr>
                <p:blipFill>
                  <a:blip r:embed="rId2"/>
                  <a:stretch/>
                </p:blipFill>
                <p:spPr>
                  <a:xfrm>
                    <a:off x="457200" y="914400"/>
                    <a:ext cx="7620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ized Stack Implementation</a:t>
            </a:r>
            <a:endParaRPr b="0" lang="en-US" sz="4400" spc="-1" strike="noStrike">
              <a:solidFill>
                <a:srgbClr val="000000"/>
              </a:solidFill>
              <a:latin typeface="Times New Roman"/>
            </a:endParaRPr>
          </a:p>
        </p:txBody>
      </p:sp>
      <p:sp>
        <p:nvSpPr>
          <p:cNvPr id="91" name="PlaceHolder 2"/>
          <p:cNvSpPr>
            <a:spLocks noGrp="1"/>
          </p:cNvSpPr>
          <p:nvPr>
            <p:ph/>
          </p:nvPr>
        </p:nvSpPr>
        <p:spPr>
          <a:xfrm>
            <a:off x="0" y="6019920"/>
            <a:ext cx="9144000" cy="838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using register file and memory (registers are used as “cache” for the stack)</a:t>
            </a:r>
            <a:endParaRPr b="0" lang="en-US" sz="2400" spc="-1" strike="noStrike">
              <a:solidFill>
                <a:srgbClr val="000000"/>
              </a:solidFill>
              <a:latin typeface="Times New Roman"/>
            </a:endParaRPr>
          </a:p>
        </p:txBody>
      </p:sp>
      <p:graphicFrame>
        <p:nvGraphicFramePr>
          <p:cNvPr id="92" name="Object 8"/>
          <p:cNvGraphicFramePr/>
          <p:nvPr/>
        </p:nvGraphicFramePr>
        <p:xfrm>
          <a:off x="152280" y="1219320"/>
          <a:ext cx="8534520" cy="4367160"/>
        </p:xfrm>
        <a:graphic>
          <a:graphicData uri="http://schemas.openxmlformats.org/presentationml/2006/ole">
            <p:oleObj r:id="rId1" spid="">
              <p:embed/>
              <p:pic>
                <p:nvPicPr>
                  <p:cNvPr id="93" name="Object 8" descr=""/>
                  <p:cNvPicPr/>
                  <p:nvPr/>
                </p:nvPicPr>
                <p:blipFill>
                  <a:blip r:embed="rId2"/>
                  <a:stretch/>
                </p:blipFill>
                <p:spPr>
                  <a:xfrm>
                    <a:off x="152280" y="1219320"/>
                    <a:ext cx="853452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a Stack Based Architecture</a:t>
            </a:r>
            <a:endParaRPr b="0" lang="en-US" sz="4400" spc="-1" strike="noStrike">
              <a:solidFill>
                <a:srgbClr val="000000"/>
              </a:solidFill>
              <a:latin typeface="Times New Roman"/>
            </a:endParaRPr>
          </a:p>
        </p:txBody>
      </p:sp>
      <p:sp>
        <p:nvSpPr>
          <p:cNvPr id="95" name="PlaceHolder 2"/>
          <p:cNvSpPr>
            <a:spLocks noGrp="1"/>
          </p:cNvSpPr>
          <p:nvPr>
            <p:ph/>
          </p:nvPr>
        </p:nvSpPr>
        <p:spPr>
          <a:xfrm>
            <a:off x="0" y="4572000"/>
            <a:ext cx="9144000" cy="2286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ir operands from the stack and write their results to the stac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 - Program code takes little memory (no need to specify the address of he operands in memory or register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is one exception, because it needs to specify the operand (either as constant or address)</a:t>
            </a:r>
            <a:endParaRPr b="0" lang="en-US" sz="2000" spc="-1" strike="noStrike">
              <a:solidFill>
                <a:srgbClr val="000000"/>
              </a:solidFill>
              <a:latin typeface="Times New Roman"/>
            </a:endParaRPr>
          </a:p>
        </p:txBody>
      </p:sp>
      <p:graphicFrame>
        <p:nvGraphicFramePr>
          <p:cNvPr id="96" name="Object 6"/>
          <p:cNvGraphicFramePr/>
          <p:nvPr/>
        </p:nvGraphicFramePr>
        <p:xfrm>
          <a:off x="228600" y="1447920"/>
          <a:ext cx="8610480" cy="3068640"/>
        </p:xfrm>
        <a:graphic>
          <a:graphicData uri="http://schemas.openxmlformats.org/presentationml/2006/ole">
            <p:oleObj r:id="rId1" spid="">
              <p:embed/>
              <p:pic>
                <p:nvPicPr>
                  <p:cNvPr id="97" name="Object 6" descr=""/>
                  <p:cNvPicPr/>
                  <p:nvPr/>
                </p:nvPicPr>
                <p:blipFill>
                  <a:blip r:embed="rId2"/>
                  <a:stretch/>
                </p:blipFill>
                <p:spPr>
                  <a:xfrm>
                    <a:off x="228600" y="1447920"/>
                    <a:ext cx="8610480" cy="30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Stack Based Instruction Set</a:t>
            </a:r>
            <a:endParaRPr b="0" lang="en-US" sz="4400" spc="-1" strike="noStrike">
              <a:solidFill>
                <a:srgbClr val="000000"/>
              </a:solidFill>
              <a:latin typeface="Times New Roman"/>
            </a:endParaRPr>
          </a:p>
        </p:txBody>
      </p:sp>
      <p:graphicFrame>
        <p:nvGraphicFramePr>
          <p:cNvPr id="99" name=""/>
          <p:cNvGraphicFramePr/>
          <p:nvPr/>
        </p:nvGraphicFramePr>
        <p:xfrm>
          <a:off x="228600" y="1143000"/>
          <a:ext cx="8534520" cy="5416560"/>
        </p:xfrm>
        <a:graphic>
          <a:graphicData uri="http://schemas.openxmlformats.org/drawingml/2006/table">
            <a:tbl>
              <a:tblPr/>
              <a:tblGrid>
                <a:gridCol w="2452680"/>
                <a:gridCol w="60818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SH #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Stack (the value popped is discar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b –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amp;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of computer organiz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 instruction cycle and organiz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and GPR processor architectur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used to implement procedure cal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in Stack Based Architecture (1)</a:t>
            </a:r>
            <a:endParaRPr b="0" lang="en-US" sz="3600" spc="-1" strike="noStrike">
              <a:solidFill>
                <a:srgbClr val="000000"/>
              </a:solidFill>
              <a:latin typeface="Times New Roman"/>
            </a:endParaRPr>
          </a:p>
        </p:txBody>
      </p:sp>
      <p:sp>
        <p:nvSpPr>
          <p:cNvPr id="10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programs for stack based architectures is not easy, since stack-based processors are better suited for postfix notation rather than infix not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x notation is the traditional way of representing math expressions, with operation placed between opera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fix notation – the operation is placed after the operand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expression has been converted into postfix notation, implementing it in programs is eas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tack based program that compu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in Stack Based Architecture (2)</a:t>
            </a:r>
            <a:endParaRPr b="0" lang="en-US" sz="3600" spc="-1" strike="noStrike">
              <a:solidFill>
                <a:srgbClr val="000000"/>
              </a:solidFill>
              <a:latin typeface="Times New Roman"/>
            </a:endParaRPr>
          </a:p>
        </p:txBody>
      </p:sp>
      <p:sp>
        <p:nvSpPr>
          <p:cNvPr id="10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need to convert the expression into postfix no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 = 2 + (7 3 &amp;) = (2 (7 3 &amp;)+)</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the postfix notation into a series of instructions, using the instructions from the instruction set presented earlier</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7</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verify the result, we need to hand simulate the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a:t>
            </a:r>
            <a:endParaRPr b="0" lang="en-US" sz="3600" spc="-1" strike="noStrike">
              <a:solidFill>
                <a:srgbClr val="000000"/>
              </a:solidFill>
              <a:latin typeface="Times New Roman"/>
            </a:endParaRPr>
          </a:p>
        </p:txBody>
      </p:sp>
      <p:sp>
        <p:nvSpPr>
          <p:cNvPr id="10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in a GPR architect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PR instruction s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in GPR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 (1)</a:t>
            </a:r>
            <a:endParaRPr b="0" lang="en-US" sz="3600" spc="-1" strike="noStrike">
              <a:solidFill>
                <a:srgbClr val="000000"/>
              </a:solidFill>
              <a:latin typeface="Times New Roman"/>
            </a:endParaRPr>
          </a:p>
        </p:txBody>
      </p:sp>
      <p:sp>
        <p:nvSpPr>
          <p:cNvPr id="10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s read their operands and write their results to random access register fi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al purpose register file allows the access of any register in any order by specifying the number (register ID) of the regis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difference between a general purpose register and the stack is that reading repeatedly a register will produce the same result and will not modify the state of the register fil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ping an item from a LIFO structure (stack) will modify the contents of the 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 (2)</a:t>
            </a:r>
            <a:endParaRPr b="0" lang="en-US" sz="3600" spc="-1" strike="noStrike">
              <a:solidFill>
                <a:srgbClr val="000000"/>
              </a:solidFill>
              <a:latin typeface="Times New Roman"/>
            </a:endParaRPr>
          </a:p>
        </p:txBody>
      </p:sp>
      <p:sp>
        <p:nvSpPr>
          <p:cNvPr id="109" name="PlaceHolder 2"/>
          <p:cNvSpPr>
            <a:spLocks noGrp="1"/>
          </p:cNvSpPr>
          <p:nvPr>
            <p:ph/>
          </p:nvPr>
        </p:nvSpPr>
        <p:spPr>
          <a:xfrm>
            <a:off x="0" y="5333760"/>
            <a:ext cx="9144000" cy="1523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PR architectures assign special values to some registers in the register file to make programming eas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sometime, register 0 is hardwired with value 0 to generate this most common constant </a:t>
            </a:r>
            <a:endParaRPr b="0" lang="en-US" sz="2000" spc="-1" strike="noStrike">
              <a:solidFill>
                <a:srgbClr val="000000"/>
              </a:solidFill>
              <a:latin typeface="Times New Roman"/>
            </a:endParaRPr>
          </a:p>
        </p:txBody>
      </p:sp>
      <p:graphicFrame>
        <p:nvGraphicFramePr>
          <p:cNvPr id="110" name="Object 6"/>
          <p:cNvGraphicFramePr/>
          <p:nvPr/>
        </p:nvGraphicFramePr>
        <p:xfrm>
          <a:off x="1828800" y="1676520"/>
          <a:ext cx="4800600" cy="3547800"/>
        </p:xfrm>
        <a:graphic>
          <a:graphicData uri="http://schemas.openxmlformats.org/presentationml/2006/ole">
            <p:oleObj r:id="rId1" spid="">
              <p:embed/>
              <p:pic>
                <p:nvPicPr>
                  <p:cNvPr id="111" name="Object 6" descr=""/>
                  <p:cNvPicPr/>
                  <p:nvPr/>
                </p:nvPicPr>
                <p:blipFill>
                  <a:blip r:embed="rId2"/>
                  <a:stretch/>
                </p:blipFill>
                <p:spPr>
                  <a:xfrm>
                    <a:off x="1828800" y="1676520"/>
                    <a:ext cx="4800600" cy="35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GPR Architecture (1)</a:t>
            </a:r>
            <a:endParaRPr b="0" lang="en-US" sz="4400" spc="-1" strike="noStrike">
              <a:solidFill>
                <a:srgbClr val="000000"/>
              </a:solidFill>
              <a:latin typeface="Times New Roman"/>
            </a:endParaRPr>
          </a:p>
        </p:txBody>
      </p:sp>
      <p:sp>
        <p:nvSpPr>
          <p:cNvPr id="11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instructions need to specify the register that hold their input operands and the register that will hold the resul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common format is the three operands instruction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r1, r2, r3 instructs the processor to read the contents of r2 and r3, add them together and write the result in r1</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having two or one input are also present in GPR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GPR Architecture (2)</a:t>
            </a:r>
            <a:endParaRPr b="0" lang="en-US" sz="4400" spc="-1" strike="noStrike">
              <a:solidFill>
                <a:srgbClr val="000000"/>
              </a:solidFill>
              <a:latin typeface="Times New Roman"/>
            </a:endParaRPr>
          </a:p>
        </p:txBody>
      </p:sp>
      <p:sp>
        <p:nvSpPr>
          <p:cNvPr id="115"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ificant difference between GPR architecture and stack based architecture is that programs can choose which values should be stored in the register file at any given time, allowing them to cache most accessed dat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ack based architectures, once the data has been used, it is gone. </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 architectures have better performance from this point of view, at the expense of needing more storing space for the program (since the instructions are larger, needing to encode also addresses of the oper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GPR Instruction Set</a:t>
            </a:r>
            <a:endParaRPr b="0" lang="en-US" sz="4400" spc="-1" strike="noStrike">
              <a:solidFill>
                <a:srgbClr val="000000"/>
              </a:solidFill>
              <a:latin typeface="Times New Roman"/>
            </a:endParaRPr>
          </a:p>
        </p:txBody>
      </p:sp>
      <p:graphicFrame>
        <p:nvGraphicFramePr>
          <p:cNvPr id="117" name=""/>
          <p:cNvGraphicFramePr/>
          <p:nvPr/>
        </p:nvGraphicFramePr>
        <p:xfrm>
          <a:off x="0" y="1341360"/>
          <a:ext cx="9144000" cy="3657600"/>
        </p:xfrm>
        <a:graphic>
          <a:graphicData uri="http://schemas.openxmlformats.org/drawingml/2006/table">
            <a:tbl>
              <a:tblPr/>
              <a:tblGrid>
                <a:gridCol w="2895480"/>
                <a:gridCol w="62485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D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amp;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consta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76"/>
          <p:cNvSpPr/>
          <p:nvPr/>
        </p:nvSpPr>
        <p:spPr>
          <a:xfrm>
            <a:off x="597960" y="5715000"/>
            <a:ext cx="761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instruction set, similar with the one presented fo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in a GPR Architecture (1)</a:t>
            </a:r>
            <a:endParaRPr b="0" lang="en-US" sz="4400" spc="-1" strike="noStrike">
              <a:solidFill>
                <a:srgbClr val="000000"/>
              </a:solidFill>
              <a:latin typeface="Times New Roman"/>
            </a:endParaRPr>
          </a:p>
        </p:txBody>
      </p:sp>
      <p:sp>
        <p:nvSpPr>
          <p:cNvPr id="120"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a GPR architecture processor is less structured than programming a stack based architecture on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fewer restrictions on the order in which the operations can be execut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tack based architectures, instructions should execute in the order that would leave the operands for the next instructions on the top of the sta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GPR, any order that places the operands for the next instruction in the register file before that instruction executes is valid.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that access different registers can be reordered without making the program inval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in GPR Architecture (2)</a:t>
            </a:r>
            <a:endParaRPr b="0" lang="en-US" sz="4400" spc="-1" strike="noStrike">
              <a:solidFill>
                <a:srgbClr val="000000"/>
              </a:solidFill>
              <a:latin typeface="Times New Roman"/>
            </a:endParaRPr>
          </a:p>
        </p:txBody>
      </p:sp>
      <p:sp>
        <p:nvSpPr>
          <p:cNvPr id="12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GPR based program that compu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programming uses infix notation:</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1,  #7</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2,  #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R3, R1, R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4, #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R4, R3, R4</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will be placed in R4</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uter Organization</a:t>
            </a:r>
            <a:endParaRPr b="0" lang="en-US" sz="4400" spc="-1" strike="noStrike">
              <a:solidFill>
                <a:srgbClr val="000000"/>
              </a:solidFill>
              <a:latin typeface="Times New Roman"/>
            </a:endParaRPr>
          </a:p>
        </p:txBody>
      </p:sp>
      <p:pic>
        <p:nvPicPr>
          <p:cNvPr id="53" name="Picture 4" descr=""/>
          <p:cNvPicPr/>
          <p:nvPr/>
        </p:nvPicPr>
        <p:blipFill>
          <a:blip r:embed="rId1"/>
          <a:stretch/>
        </p:blipFill>
        <p:spPr>
          <a:xfrm>
            <a:off x="254160" y="1363680"/>
            <a:ext cx="8432640" cy="440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Stack based and GPR Architectures</a:t>
            </a:r>
            <a:endParaRPr b="0" lang="en-US" sz="3200" spc="-1" strike="noStrike">
              <a:solidFill>
                <a:srgbClr val="000000"/>
              </a:solidFill>
              <a:latin typeface="Times New Roman"/>
            </a:endParaRPr>
          </a:p>
        </p:txBody>
      </p:sp>
      <p:sp>
        <p:nvSpPr>
          <p:cNvPr id="124"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ake fewer bits to encode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amount of memory taken up by program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the use of register automatically (no need for programmer interven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set does not change if size of register file has changed</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volution of technology, the amount of space taken up by a program is less importa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ers for GPR architectures achieve better performance with a given nmber of general purpose registers than they are on stack-based architectures with same number of registers</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iler can choose which values to keep (cache) in register file at any time</a:t>
            </a:r>
            <a:endParaRPr b="0" lang="en-US" sz="18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 are used by modern computers (workstations, PC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1)</a:t>
            </a:r>
            <a:endParaRPr b="0" lang="en-US" sz="3200" spc="-1" strike="noStrike">
              <a:solidFill>
                <a:srgbClr val="000000"/>
              </a:solidFill>
              <a:latin typeface="Times New Roman"/>
            </a:endParaRPr>
          </a:p>
        </p:txBody>
      </p:sp>
      <p:sp>
        <p:nvSpPr>
          <p:cNvPr id="12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need a way to pass inputs to the procedures that they call and to receive outputs back from th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need to be able to allocate space in memory for local variables, without overriding any data used by their calling progra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ssible to determine which registers may be safely used by the procedure (especially if the procedure is located in a library), so a mechanism to save/restore registers of calling program has to be in pla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need a way to figure out where they were called from, so the execution can return to the calling program when the procedure completes (they need to restore the program coun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2)</a:t>
            </a:r>
            <a:endParaRPr b="0" lang="en-US" sz="3200" spc="-1" strike="noStrike">
              <a:solidFill>
                <a:srgbClr val="000000"/>
              </a:solidFill>
              <a:latin typeface="Times New Roman"/>
            </a:endParaRPr>
          </a:p>
        </p:txBody>
      </p:sp>
      <p:sp>
        <p:nvSpPr>
          <p:cNvPr id="128"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dure is called, a block of memory in the stack is allocated. This is called a stack fram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of the stack pointer is incremented by the number of locations in the stack fram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9" name="Object 6"/>
          <p:cNvGraphicFramePr/>
          <p:nvPr/>
        </p:nvGraphicFramePr>
        <p:xfrm>
          <a:off x="1295280" y="1066680"/>
          <a:ext cx="6248520" cy="4038840"/>
        </p:xfrm>
        <a:graphic>
          <a:graphicData uri="http://schemas.openxmlformats.org/presentationml/2006/ole">
            <p:oleObj r:id="rId1" spid="">
              <p:embed/>
              <p:pic>
                <p:nvPicPr>
                  <p:cNvPr id="130" name="Object 6" descr=""/>
                  <p:cNvPicPr/>
                  <p:nvPr/>
                </p:nvPicPr>
                <p:blipFill>
                  <a:blip r:embed="rId2"/>
                  <a:stretch/>
                </p:blipFill>
                <p:spPr>
                  <a:xfrm>
                    <a:off x="1295280" y="1066680"/>
                    <a:ext cx="62485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3)</a:t>
            </a:r>
            <a:endParaRPr b="0" lang="en-US" sz="3200" spc="-1" strike="noStrike">
              <a:solidFill>
                <a:srgbClr val="000000"/>
              </a:solidFill>
              <a:latin typeface="Times New Roman"/>
            </a:endParaRPr>
          </a:p>
        </p:txBody>
      </p:sp>
      <p:sp>
        <p:nvSpPr>
          <p:cNvPr id="132"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procedure calls – main program calls function f(), function f() calls function g(), function g() calls function h()</a:t>
            </a:r>
            <a:endParaRPr b="0" lang="en-US" sz="2800" spc="-1" strike="noStrike">
              <a:solidFill>
                <a:srgbClr val="000000"/>
              </a:solidFill>
              <a:latin typeface="Times New Roman"/>
            </a:endParaRPr>
          </a:p>
        </p:txBody>
      </p:sp>
      <p:graphicFrame>
        <p:nvGraphicFramePr>
          <p:cNvPr id="133" name="Object 7"/>
          <p:cNvGraphicFramePr/>
          <p:nvPr/>
        </p:nvGraphicFramePr>
        <p:xfrm>
          <a:off x="1066680" y="838080"/>
          <a:ext cx="6477120" cy="4757760"/>
        </p:xfrm>
        <a:graphic>
          <a:graphicData uri="http://schemas.openxmlformats.org/presentationml/2006/ole">
            <p:oleObj r:id="rId1" spid="">
              <p:embed/>
              <p:pic>
                <p:nvPicPr>
                  <p:cNvPr id="134" name="Object 7" descr=""/>
                  <p:cNvPicPr/>
                  <p:nvPr/>
                </p:nvPicPr>
                <p:blipFill>
                  <a:blip r:embed="rId2"/>
                  <a:stretch/>
                </p:blipFill>
                <p:spPr>
                  <a:xfrm>
                    <a:off x="1066680" y="838080"/>
                    <a:ext cx="647712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ing Conventions</a:t>
            </a:r>
            <a:endParaRPr b="0" lang="en-US" sz="4400" spc="-1" strike="noStrike">
              <a:solidFill>
                <a:srgbClr val="000000"/>
              </a:solidFill>
              <a:latin typeface="Times New Roman"/>
            </a:endParaRPr>
          </a:p>
        </p:txBody>
      </p:sp>
      <p:sp>
        <p:nvSpPr>
          <p:cNvPr id="13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rogramming systems may arrange data in procedure’s stack frame differently and may require the steps involved in calling a procedure be performed in different order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requirements that a programming system places on how a procedure is called and how the data is passed between a calling program and its procedures are called </a:t>
            </a:r>
            <a:r>
              <a:rPr b="1" i="1" lang="en-US" sz="2400" spc="-1" strike="noStrike">
                <a:solidFill>
                  <a:srgbClr val="000000"/>
                </a:solidFill>
                <a:latin typeface="Times New Roman"/>
              </a:rPr>
              <a:t>calling conven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ing conventions are designed in such a way to minimize the amount of data passed between the calling program and its proced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graphicFrame>
        <p:nvGraphicFramePr>
          <p:cNvPr id="55" name="Object 12"/>
          <p:cNvGraphicFramePr/>
          <p:nvPr/>
        </p:nvGraphicFramePr>
        <p:xfrm>
          <a:off x="609480" y="1177920"/>
          <a:ext cx="7315200" cy="5680080"/>
        </p:xfrm>
        <a:graphic>
          <a:graphicData uri="http://schemas.openxmlformats.org/presentationml/2006/ole">
            <p:oleObj r:id="rId1" spid="">
              <p:embed/>
              <p:pic>
                <p:nvPicPr>
                  <p:cNvPr id="56" name="Object 12" descr=""/>
                  <p:cNvPicPr/>
                  <p:nvPr/>
                </p:nvPicPr>
                <p:blipFill>
                  <a:blip r:embed="rId2"/>
                  <a:stretch/>
                </p:blipFill>
                <p:spPr>
                  <a:xfrm>
                    <a:off x="609480" y="1177920"/>
                    <a:ext cx="7315200" cy="56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n Neumann and Harvard architectures</a:t>
            </a:r>
            <a:endParaRPr b="0" lang="en-US" sz="3600" spc="-1" strike="noStrike">
              <a:solidFill>
                <a:srgbClr val="000000"/>
              </a:solidFill>
              <a:latin typeface="Times New Roman"/>
            </a:endParaRPr>
          </a:p>
        </p:txBody>
      </p:sp>
      <p:sp>
        <p:nvSpPr>
          <p:cNvPr id="58"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Neuman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instructions and data to be mixed and stored in the same memory modu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flexible and easier to impl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able for most of the general purpose processor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ar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separate memory modules for instructions and for da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easier to pipe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memory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able for DSP (Digital Signal Process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6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struction sequences that tell computer what to d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o the computer, a program is made out of a sequence of numbers that represent individual oper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ose operations are known as </a:t>
            </a:r>
            <a:r>
              <a:rPr b="1" i="1" lang="en-IE" sz="2000" spc="-1" strike="noStrike">
                <a:solidFill>
                  <a:srgbClr val="000000"/>
                </a:solidFill>
                <a:latin typeface="Times New Roman"/>
              </a:rPr>
              <a:t>machine instructions</a:t>
            </a:r>
            <a:r>
              <a:rPr b="0" lang="en-IE" sz="2000" spc="-1" strike="noStrike">
                <a:solidFill>
                  <a:srgbClr val="000000"/>
                </a:solidFill>
                <a:latin typeface="Times New Roman"/>
              </a:rPr>
              <a:t> or just </a:t>
            </a:r>
            <a:r>
              <a:rPr b="1" i="1" lang="en-IE" sz="2000" spc="-1" strike="noStrike">
                <a:solidFill>
                  <a:srgbClr val="000000"/>
                </a:solidFill>
                <a:latin typeface="Times New Roman"/>
              </a:rPr>
              <a:t>instructions</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set of instructions that a processor can execute is known as </a:t>
            </a:r>
            <a:r>
              <a:rPr b="1" i="1" lang="en-IE" sz="2000" spc="-1" strike="noStrike">
                <a:solidFill>
                  <a:srgbClr val="000000"/>
                </a:solidFill>
                <a:latin typeface="Times New Roman"/>
              </a:rPr>
              <a:t>instruction set</a:t>
            </a:r>
            <a:r>
              <a:rPr b="0" lang="en-IE"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or - Instruction Cycles</a:t>
            </a:r>
            <a:endParaRPr b="0" lang="en-US" sz="4400" spc="-1" strike="noStrike">
              <a:solidFill>
                <a:srgbClr val="000000"/>
              </a:solidFill>
              <a:latin typeface="Times New Roman"/>
            </a:endParaRPr>
          </a:p>
        </p:txBody>
      </p:sp>
      <p:sp>
        <p:nvSpPr>
          <p:cNvPr id="6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 cycle is the procedure of processing an instruction by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tches or reads the instruction from the memo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des the instruction, determining which instruction is to be executed (which instruction has been fetch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es the instruction – performs the operations necessary to complete what the instruction is suppose to do (different from instruction to instruction, may read data from memory, may write data to memory or I/O device, perform only operations within CPU or combination of thos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phases fetch -&gt; decode -&gt; execute consist of a sequence of one or more operations inside the CPU (and interaction with the sub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Organization</a:t>
            </a:r>
            <a:endParaRPr b="0" lang="en-US" sz="4400" spc="-1" strike="noStrike">
              <a:solidFill>
                <a:srgbClr val="000000"/>
              </a:solidFill>
              <a:latin typeface="Times New Roman"/>
            </a:endParaRPr>
          </a:p>
        </p:txBody>
      </p:sp>
      <p:graphicFrame>
        <p:nvGraphicFramePr>
          <p:cNvPr id="64" name="Object 9"/>
          <p:cNvGraphicFramePr/>
          <p:nvPr/>
        </p:nvGraphicFramePr>
        <p:xfrm>
          <a:off x="1523880" y="1219320"/>
          <a:ext cx="6324840" cy="5330880"/>
        </p:xfrm>
        <a:graphic>
          <a:graphicData uri="http://schemas.openxmlformats.org/presentationml/2006/ole">
            <p:oleObj r:id="rId1" spid="">
              <p:embed/>
              <p:pic>
                <p:nvPicPr>
                  <p:cNvPr id="65" name="Object 9" descr=""/>
                  <p:cNvPicPr/>
                  <p:nvPr/>
                </p:nvPicPr>
                <p:blipFill>
                  <a:blip r:embed="rId2"/>
                  <a:stretch/>
                </p:blipFill>
                <p:spPr>
                  <a:xfrm>
                    <a:off x="1523880" y="1219320"/>
                    <a:ext cx="632484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on Unit Example</a:t>
            </a:r>
            <a:endParaRPr b="0" lang="en-US" sz="4400" spc="-1" strike="noStrike">
              <a:solidFill>
                <a:srgbClr val="000000"/>
              </a:solidFill>
              <a:latin typeface="Times New Roman"/>
            </a:endParaRPr>
          </a:p>
        </p:txBody>
      </p:sp>
      <p:sp>
        <p:nvSpPr>
          <p:cNvPr id="67"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for a = b +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3, b //copy value b from memory to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4, c //copy value c from memory to R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3, R4 //sum placed in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R3, a //store the result into memory</a:t>
            </a:r>
            <a:endParaRPr b="0" lang="en-US" sz="2400" spc="-1" strike="noStrike">
              <a:solidFill>
                <a:srgbClr val="000000"/>
              </a:solidFill>
              <a:latin typeface="Times New Roman"/>
            </a:endParaRPr>
          </a:p>
        </p:txBody>
      </p:sp>
      <p:graphicFrame>
        <p:nvGraphicFramePr>
          <p:cNvPr id="68" name="Object 4"/>
          <p:cNvGraphicFramePr/>
          <p:nvPr/>
        </p:nvGraphicFramePr>
        <p:xfrm>
          <a:off x="304920" y="914400"/>
          <a:ext cx="8534160" cy="3968640"/>
        </p:xfrm>
        <a:graphic>
          <a:graphicData uri="http://schemas.openxmlformats.org/presentationml/2006/ole">
            <p:oleObj r:id="rId1" spid="">
              <p:embed/>
              <p:pic>
                <p:nvPicPr>
                  <p:cNvPr id="69" name="Object 4" descr=""/>
                  <p:cNvPicPr/>
                  <p:nvPr/>
                </p:nvPicPr>
                <p:blipFill>
                  <a:blip r:embed="rId2"/>
                  <a:stretch/>
                </p:blipFill>
                <p:spPr>
                  <a:xfrm>
                    <a:off x="304920" y="914400"/>
                    <a:ext cx="853416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2T17:13:48Z</dcterms:modified>
  <cp:revision>99</cp:revision>
  <dc:subject/>
  <dc:title>PowerPoint Presentation</dc:title>
</cp:coreProperties>
</file>