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BC2A-63A3-4833-816C-19B4078F3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3599-160E-4A46-8113-A1ACE3FCC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C81D-D1C9-4AB2-AFB0-9FA3C9BBC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03DD-B300-4258-8D7A-C65CEAF51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433C-0B6D-42A1-A84E-B15FBC007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BBC-AF9E-46A9-8132-8EC6E193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CA0-5775-47DF-AE69-7D785AC9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1B6-E6F9-4E6C-A48D-AC200D8C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5E6-5668-472B-AEBE-21E8A8ED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C906-2A80-4B74-B670-A9A0CB16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A17-5F3F-4245-9869-00541F60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190-9CE4-4539-8747-A1247A60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06F-EAED-46D7-890D-D17F620D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F6E6-6A27-4BF7-B4A3-66DA052B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DD1-13D9-4D40-A0FC-82BBEBE6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C0B-A42F-41ED-AC24-DBA9D297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50F-9054-4016-BB56-CAC29CEE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191D-C5AA-4312-A596-2807B3443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2.it.nuigalway.ie/staff/pbigioi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T101: Computing Syste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Petronel Bigi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Lecturer 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r. Petronel Bigio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urse sched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mester1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onday 2 – 3 pm, AC2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onday 3 – 4 pm, IT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meste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onday 3-5p, IT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urse material:</a:t>
            </a:r>
            <a:r>
              <a:rPr b="0" lang="de-DE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ww2.it.nuigalway.ie/staff/pbigio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Inf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xtbooks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gital Design and Computer Architecture, David Harris &amp; Sarah Harris, ISBN: 978-0-12-394424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mputer Systems Organization &amp; Architecture, John D. Carpinelli, ISBN: 0-201-61253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Architecture of Computer hardware and Systems Software, Irv Englander, ISBN: 0-47136209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L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emeste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Monday 5-7pm - LAB IT106 / Wednesday 6-8pm – LAB IT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Start to be advised during th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emeste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Tuesday 6-8PM LAB 1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Thursday 6-8 LAB1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ttendan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andatory for both labs and cou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Marking 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emester Work: 30%, Exam: 7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utlin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 to Computing System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’s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onents of a compu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in computing system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form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resentation of intege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resenting of negative and floating poin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ing Systems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ical 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al units and their interaction (CPU, Memory, IO and Bu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Systems Ba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cation Software vs. System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ng system Structure and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ting a computing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utlin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Logic Fundamenta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roduction to digital logic circuitry. FETs and logic g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ean logic revie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binatorial logic circuitry analysis and design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quential logic circuitry analysis and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dware Description Languages (SystemVerilo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 organization and elements of CPU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ing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ction Set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pel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ction haz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utlin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subsystem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y internal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erarchical memory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/output subsystem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ynchronous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ru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memory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Mate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Communication &amp; 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plex, half duplex full du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llel and se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nchronous and asynchron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nel multiplexing, modulation and mod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tworks Topologies, cabling and media access meth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 architectures and OSI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, Addressing and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o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bigioi</dc:creator>
  <dc:description/>
  <dc:language>en-US</dc:language>
  <cp:lastModifiedBy>pbigioi</cp:lastModifiedBy>
  <dcterms:modified xsi:type="dcterms:W3CDTF">2015-12-29T16:32:56Z</dcterms:modified>
  <cp:revision>56</cp:revision>
  <dc:subject/>
  <dc:title>PowerPoint Presentation</dc:title>
</cp:coreProperties>
</file>