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6.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FCBD-EF04-48D1-9B61-511F353F7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ny different types of components and devices can be found in modern circuits, including resistors, capacitors, and inductors, semiconductor devices like diodes, transistors, and integrated circ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BDBE-5B0A-460D-8AA6-B28BDFA92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 digital circuit is constructed of a power supply, devices, and conduction nets. Some nets provid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ircuit inputs from the “outside world”; in a schematic, these input nets are generally shown entering</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the left side of component and/or the overall circuit. Other nets present circuit outputs to the outsid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world; these nets are generally shown exiting the schematic on the right. In the shown schematic, circuit components are shown as arbitrary shapes, nets are shown as lines, and inputs and outputs are denoted by connector symbol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 digital circuit requires a power supply to provide a constant and stable source of electric power to all devices. A “power supply” in a digital circuit provides a local, contained imbalance of electrons that provides a voltage source that can do useful work, such as transmitting information through a conductor from one device to another.</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 digital circuit allows a controlled flow of electrons from of the negative to positive side of the power supply, but only via th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aths designed into the circuit. As electrons flow to and from the devices in a given circuit, they ca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hange device properties in useful ways.</a:t>
            </a:r>
            <a:endParaRPr b="0" lang="en-US" sz="11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6F37-DBFF-47BB-BE34-9877A9010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Vdd may be thought of as the “source” of positive charges in a circuit, and GND may be thought of as the “source” of negative charges in a circuit.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 modern digital systems, Vdd and GND are separated by anywhere from 1 to 5 volts. Older or inexpensive circuits typically use 5 volts, while newer circuits use 1-3 volts.</a:t>
            </a:r>
            <a:endParaRPr b="0" lang="en-US" sz="2000" spc="-1" strike="noStrike">
              <a:solidFill>
                <a:srgbClr val="000000"/>
              </a:solidFill>
              <a:latin typeface="Times New Roman"/>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E527-A19C-47B6-AB51-8FE302E90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data in digital circuits are represented by signals that can be in one of only two states, and all data operations combine two-state data inputs to produce two sate data outputs. Systems that use two-state data are known as binary systems, and a two-sate signal is a binary signal.</a:t>
            </a:r>
            <a:endParaRPr b="0" lang="en-US" sz="1200" spc="-1" strike="noStrike">
              <a:solidFill>
                <a:srgbClr val="000000"/>
              </a:solidFill>
              <a:latin typeface="Times New Roman"/>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1460-D3D4-4FFA-AB1E-5229321DD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32EF-0A78-42E3-9508-D58FE1831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maller capacitors, appearing as small blocks, disks or wafers, often have their values printed on them in an encoded manner . For these capacitors, a three-digit number typically indicates the capacitor value in picofarads. </a:t>
            </a:r>
            <a:r>
              <a:rPr b="0" lang="en-IE" sz="1200" spc="-1" strike="noStrike">
                <a:solidFill>
                  <a:srgbClr val="000000"/>
                </a:solidFill>
                <a:latin typeface="Times New Roman"/>
              </a:rPr>
              <a:t>The first two digits provide the "base" number, and the third digit provides an exponent of 10 (so, for example, "104" printed on a capacitor indicates a capacitance value of 10 x 104 or 100000 </a:t>
            </a:r>
            <a:r>
              <a:rPr b="0" lang="en-IE" sz="1600" spc="-1" strike="noStrike">
                <a:solidFill>
                  <a:srgbClr val="000000"/>
                </a:solidFill>
                <a:latin typeface="Times New Roman"/>
              </a:rPr>
              <a:t>pF). Occasionally, a capacitor will only show a two-digit number, in which case that number is simply the capacitor value in pF. (To be complete, if a capacitor shows a three-digit number and the third digit is 8 or 9, then the first two digits are multiplied by .01 and .1 respectively). Often, a single letter is appended to the capacitance value – this letter indicates the quality of the capacit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4AA8-09B5-4B13-BFC2-919EF28B1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ircuits often require inputs that come directly from users (as opposed to inputs that come from other devices).  User-input devices can take many forms, among them keyboards (as on a PC), buttons (as on a calculator or telephone), rotary dials, switches and lever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7E2C-4EE9-465F-87D6-ED8340489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AB59-6CCD-4975-AD01-BB6155D81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lectronic components are often assembled and interconnected on a flat surface known as a circuit boar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several types of existing circuit boards may be divided into two broad categories: </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ose intended for prototype or experimental circuits; </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nd those intended for production and/or commercial sal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ircuit boards used for experimental work are often referred to as breadboards or protoboar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Production circuit boards are design usually using specialised CAD software (e.g. OrCAD, Protel, etc..). Once the design is completed, the PCB has to be manufactured. Typical steps are shown in the picture.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readboards allow engineers to construct circuits quickly, so that they can be studied and 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ntil an optimal design is discovered. In a typical breadboard use, components and wires are add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circuit in an ad hoc manner as the design proceeds.</a:t>
            </a:r>
            <a:endParaRPr b="0" lang="en-US" sz="1200" spc="-1" strike="noStrike">
              <a:solidFill>
                <a:srgbClr val="000000"/>
              </a:solidFill>
              <a:latin typeface="Times New Roman"/>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453B-D490-4BDD-94E0-55EB853CC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s shown in the figures, the chips themselves are much smaller than their packages. During</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manufacturing, the small, fragile chips are glued (using epoxy) onto the bottom half of the packag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bond-wires are attached to the chip and to the externally available pins, and then the top half of th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hip package is permanently affixed. Smaller chips may only have a few pins, but larger chips ca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have more than 500 pins. Since the chips themselves are on the order of a centimetre on each sid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very precise and delicate machines are required to mount them in their packag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Smaller chips might be packaged in a "DIP" package (DIP is an acronym for Dual In-line Package) a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shown below. Typically on the order of 1" x 1/4", DIP packages are most often made from black plastic, and they can have anywhere from 8 to 48 pins protruding in equal numbers from either sid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DIPs are used exclusively in through-hole processes. Larger chips use many different packages – on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ommon package, the "PLCC" (for Plastic Leaded Chip Carrier) is shown. Since these larger</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ackages can have up to several hundred pins, it is often not practical to use the relatively large lead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required by through-hole packages. Thus, large chips usually use surface mount packages, where th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external pins can be smaller and more densely packed.</a:t>
            </a:r>
            <a:endParaRPr b="0" lang="en-US" sz="1100" spc="-1" strike="noStrike">
              <a:solidFill>
                <a:srgbClr val="000000"/>
              </a:solidFill>
              <a:latin typeface="Times New Roman"/>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9067-4EC1-4FFB-A233-4E2A4DE45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just switches and resistors, it is also possible to create logical circuits that perform compound logical relationships, like “F = (A and B) or 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when the gate voltage changes from Vdd to GND or vice-versa, it must necessary assume voltages between Vdd and GND – we assume that this happens infinitely fast, so that we can ignore FET characteristics during the time the gate voltage is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simple digital model, FETs can be thought of as electrically controllable "on/off" switches. An electrical connection is created betwee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nd the drain (i.e., the FET is turned “on”) when the gate input is asserted. One kind of FET, called an nFET, is turned on when Vdd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control input, and a second type, called a pFET, is turned on when GND is present at the control input. Thus, an "asserted" input for an nFET mean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rol signal is at Vdd, and for a pFET means the control input is at a GND. The figures show the circuit symbols and equivalent switch diagrams for both nFETs and pFE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ll matter is made up of atoms that contain both positively and negatively charged particles (protons and electrons).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urrounding every charged particle is an electric field that can exert force on other charged particles. A positive field surrounds a proton, and a negative field surrounds an electr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ield strength is the same for every electron and proton, with a magnitude of one “fundamental unit” of 1.602 x 10</a:t>
            </a:r>
            <a:r>
              <a:rPr b="0" lang="en-IE" sz="2400" spc="-1" strike="noStrike" baseline="30000">
                <a:solidFill>
                  <a:srgbClr val="000000"/>
                </a:solidFill>
                <a:latin typeface="Times New Roman"/>
              </a:rPr>
              <a:t>-19</a:t>
            </a:r>
            <a:r>
              <a:rPr b="0" lang="en-IE" sz="2400" spc="-1" strike="noStrike">
                <a:solidFill>
                  <a:srgbClr val="000000"/>
                </a:solidFill>
                <a:latin typeface="Times New Roman"/>
              </a:rPr>
              <a:t> Coulombs.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oulomb is a measure of charge derived from a measurement of electric current – one coulomb of charge is transferred by one ampere of current in one second </a:t>
            </a:r>
            <a:endParaRPr b="0" lang="en-US" sz="24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o get a matter of scale, one coulomb of charge flows through a 120W light bulb in one secon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45B8-44AC-4A6E-A301-EB3BD2067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licon chip is implanted with ions to make it more conductive in the areas that will become the FET source and the drain regions – called diffusion reg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hin insulating layer is created between these diffusion regions, and another conductor is "grown" on top of this insulat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own conductor (typically silicon) forms the gate, and the area immediately under the gate and between the diffusion regions is called the channel. Finally, wires are connected to the source, drain, and gate structures so that the FET can be connected in a larger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97BC-DBB2-4BFF-B3CD-42A5B43B7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basic principles of FET operation are actually quite straightforward. The discussion applies only to nFETs; pFET operation is entirely similar. but the voltages must be rever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th the source and drain diffusion areas of an nFET are implanted with negatively charged particles. When an nFET is used in a logic circuit, its source lead is connected to GND, so that the nFET source, like the GND node, has an  abundance of negatively charged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the gate voltage of an nFET is at the same voltage as the source lead (i.e., GND), then the presence of the negatively charged particles on the gate repels negatively charged particles from the channel region immediately under the gate (note that in semiconductors such as silicon, positive and negative charges are mobile and can move about the semiconductor lattice under the influence of charged-particle induced electric fields). A net positive charge accumulates under the gate, and two back-to-back positive-negative junctions of charge (called pn junctions) are formed. These pn junctions prevent current flow in either di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the voltage on the gate is raised above the source voltage by an amount exceeding the threshold voltage (or Vth, which equals about 0.5V), positive charges begin to accumulate on the gate and positive charges in the channel region immediately under the gate are repelled. A net negative charge accumulates under the gate, forming a channel of continuous conductive region in the area under the gate and between the source and drain diffusion areas. When the gate voltage reaches Vdd, a large conductive channel forms and the nFET is “strongly” on.</a:t>
            </a:r>
            <a:endParaRPr b="0" lang="en-US" sz="1200" spc="-1" strike="noStrike">
              <a:solidFill>
                <a:srgbClr val="000000"/>
              </a:solidFill>
              <a:latin typeface="Times New Roman"/>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6E25-F063-42B0-824D-10159DFA0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bubble on input means that input must be at LLV to produce the indicated logic function output, and a bubble on the output means that a LLV output signal is produced as a result of the logic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lack of a bubble on inputs means that signals must be at LHV to produce the indicated function, and the lack of a bubble on the output means that a LHV signal is produced as a result of the logic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ote that each of the symbols above has two appearances. The symbols on the top may be considered the primary symbols, and those on the bottom may be considered the </a:t>
            </a:r>
            <a:r>
              <a:rPr b="1" lang="en-IE" sz="1200" spc="-1" strike="noStrike">
                <a:solidFill>
                  <a:srgbClr val="000000"/>
                </a:solidFill>
                <a:latin typeface="Times New Roman"/>
              </a:rPr>
              <a:t>conjugate symbols </a:t>
            </a:r>
            <a:r>
              <a:rPr b="0" lang="en-IE" sz="1200" spc="-1" strike="noStrike">
                <a:solidFill>
                  <a:srgbClr val="000000"/>
                </a:solidFill>
                <a:latin typeface="Times New Roman"/>
              </a:rPr>
              <a:t>(properly, each symbol is the conjugate of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2607-8CC9-46F6-88B8-18F36198A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2B4B-E523-4A32-A84A-865E2D36A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 positive electric field surrounding a group of one or more protons will exert a repelling force on other groups of protons, and an attracting force on groups of electron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ince an electric field can cause charged particles to move, it can do some amount of work, and so it is said to have </a:t>
            </a:r>
            <a:r>
              <a:rPr b="1" i="1" lang="en-IE" sz="1800" spc="-1" strike="noStrike">
                <a:solidFill>
                  <a:srgbClr val="000000"/>
                </a:solidFill>
                <a:latin typeface="Times New Roman"/>
              </a:rPr>
              <a:t>electrical potential energy</a:t>
            </a:r>
            <a:r>
              <a:rPr b="0" lang="en-IE"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Times New Roman"/>
              </a:rPr>
              <a:t>The amount of energy an electric field can impart to unit charge is measured in joules per coulomb, more commonly known as voltage. Voltage is commonly used as a short name for electrical potential difference.</a:t>
            </a:r>
            <a:r>
              <a:rPr b="1" lang="en-IE" sz="1800" spc="-1" strike="noStrike">
                <a:solidFill>
                  <a:srgbClr val="000000"/>
                </a:solidFill>
                <a:latin typeface="Times New Roman"/>
              </a:rPr>
              <a:t> </a:t>
            </a:r>
            <a:r>
              <a:rPr b="1" i="1" lang="en-IE" sz="1800" spc="-1" strike="noStrike">
                <a:solidFill>
                  <a:srgbClr val="000000"/>
                </a:solidFill>
                <a:latin typeface="Times New Roman"/>
              </a:rPr>
              <a: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Voltage is a way of using numbers to describe an electric field</a:t>
            </a:r>
            <a:endParaRPr b="0" lang="en-US" sz="18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Voltage may be thought of as the “electromotive force” that can cause charged particles to move. </a:t>
            </a:r>
            <a:endParaRPr b="0" lang="en-US" sz="1400" spc="-1" strike="noStrike">
              <a:solidFill>
                <a:srgbClr val="000000"/>
              </a:solidFill>
              <a:latin typeface="Times New Roman"/>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2663-2C1B-45F8-BAEE-CEEE2188C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 power supply is a device containing imbalance of electrons:</a:t>
            </a:r>
            <a:endParaRPr b="0" lang="en-US" sz="18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One side (the negative side) has material containing an abundance of electron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e other side (positive side) has material containing a relative absence of electrons.</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electrical potential energy available in the power supply, measured in volts, is determined by the number of electrons it can store, the separation distance between negative and positive materials, the properties of the barrier between the materials, and other factors. </a:t>
            </a:r>
            <a:endParaRPr b="0" lang="en-US" sz="18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ome power supplies (like small batteries) output less than a volt, while others (like power generation stations) can output tens of thousands of volt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general, power supplies of up to 9V – 12V are considered “safe” for humans to interact with (at least when skin layers are intact), but some people can have adverse (and potentially fatal) interactions with even low-voltage supplies. In our work, we will not encounter any supplies above 5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7AE9-A622-424A-AD42-C2127837D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lectrons carry the smallest possible amount of negative charge, and billions of them are present in even the tiniest piece of matter. </a:t>
            </a:r>
            <a:endParaRPr b="0" lang="en-US" sz="20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nsulators - electrons are held firmly in place by heavier, positively charged protons. Electrons cannot move freely between atom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Conductors - electrons can move more easily from atom to atom. </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movement of electrons in a conductor is called </a:t>
            </a:r>
            <a:r>
              <a:rPr b="1" i="1" lang="en-IE" sz="2000" spc="-1" strike="noStrike">
                <a:solidFill>
                  <a:srgbClr val="000000"/>
                </a:solidFill>
                <a:latin typeface="Times New Roman"/>
              </a:rPr>
              <a:t>electric current</a:t>
            </a:r>
            <a:r>
              <a:rPr b="0" lang="en-IE" sz="2000" spc="-1" strike="noStrike">
                <a:solidFill>
                  <a:srgbClr val="000000"/>
                </a:solidFill>
                <a:latin typeface="Times New Roman"/>
              </a:rPr>
              <a:t>, measured in amperes.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a power supply is used to impress a voltage across a conductor, electrons will move from the negative side of the supply through the conductor towards the positive side. </a:t>
            </a:r>
            <a:endParaRPr b="0" lang="en-US" sz="20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ll materials, even conductors, exhibit some amount of resistance to the flow of electric current. The amount of resistance determines how much current can flow – the higher the resistance, the less current can flow. </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conductor has very low resistance, so a conductor by itself would never be placed across a power supply because far too much current would flow, damaging either the supply or the conductor itself. Rather an electronic component called a </a:t>
            </a:r>
            <a:r>
              <a:rPr b="1" i="1" lang="en-IE" sz="2000" spc="-1" strike="noStrike">
                <a:solidFill>
                  <a:srgbClr val="000000"/>
                </a:solidFill>
                <a:latin typeface="Times New Roman"/>
              </a:rPr>
              <a:t>resistor</a:t>
            </a:r>
            <a:r>
              <a:rPr b="0" lang="en-IE" sz="2000" spc="-1" strike="noStrike">
                <a:solidFill>
                  <a:srgbClr val="000000"/>
                </a:solidFill>
                <a:latin typeface="Times New Roman"/>
              </a:rPr>
              <a:t> would be used in series with the conductor to limit current flo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69C5-32D5-49A5-AB40-A8D554560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 current flows through the resistor, collisions occur between the electrons flowing from the power supply and the materials in the resistor. These collisions cause electrons to give up their potential energy, and that energy is dissipated as heat.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electric circuits, </a:t>
            </a:r>
            <a:r>
              <a:rPr b="1" i="1" lang="en-IE" sz="2400" spc="-1" strike="noStrike">
                <a:solidFill>
                  <a:srgbClr val="000000"/>
                </a:solidFill>
                <a:latin typeface="Times New Roman"/>
              </a:rPr>
              <a:t>power</a:t>
            </a:r>
            <a:r>
              <a:rPr b="0" lang="en-IE" sz="2400" spc="-1" strike="noStrike">
                <a:solidFill>
                  <a:srgbClr val="000000"/>
                </a:solidFill>
                <a:latin typeface="Times New Roman"/>
              </a:rPr>
              <a:t>, measured in </a:t>
            </a:r>
            <a:r>
              <a:rPr b="1" i="1" lang="en-IE" sz="2400" spc="-1" strike="noStrike">
                <a:solidFill>
                  <a:srgbClr val="000000"/>
                </a:solidFill>
                <a:latin typeface="Times New Roman"/>
              </a:rPr>
              <a:t>Watts</a:t>
            </a:r>
            <a:r>
              <a:rPr b="0" lang="en-IE" sz="2400" spc="-1" strike="noStrike">
                <a:solidFill>
                  <a:srgbClr val="000000"/>
                </a:solidFill>
                <a:latin typeface="Times New Roman"/>
              </a:rPr>
              <a:t>, is defined as (voltage x current) or P = V·I. The power transferred to the resistor at any given time results in resistor heating. The more power transferred to the resistor, the hotter it gets. </a:t>
            </a:r>
            <a:endParaRPr b="0" lang="en-US" sz="2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For a given voltage, a smaller-valued resistor would allow more current to flow (see Ohm’s law), and therefore more energy would be dissipated as heat (and the resistor would get hotter). </a:t>
            </a:r>
            <a:endParaRPr b="0" lang="en-US" sz="1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total </a:t>
            </a:r>
            <a:r>
              <a:rPr b="1" i="1" lang="en-IE" sz="2400" spc="-1" strike="noStrike">
                <a:solidFill>
                  <a:srgbClr val="000000"/>
                </a:solidFill>
                <a:latin typeface="Times New Roman"/>
              </a:rPr>
              <a:t>energy</a:t>
            </a:r>
            <a:r>
              <a:rPr b="0" lang="en-IE" sz="2400" spc="-1" strike="noStrike">
                <a:solidFill>
                  <a:srgbClr val="000000"/>
                </a:solidFill>
                <a:latin typeface="Times New Roman"/>
              </a:rPr>
              <a:t> consumed in an electric circuit is simply the time integral of power, measured in Watts per second, or </a:t>
            </a:r>
            <a:r>
              <a:rPr b="1" i="1" lang="en-IE" sz="2400" spc="-1" strike="noStrike">
                <a:solidFill>
                  <a:srgbClr val="000000"/>
                </a:solidFill>
                <a:latin typeface="Times New Roman"/>
              </a:rPr>
              <a:t>Joules</a:t>
            </a:r>
            <a:r>
              <a:rPr b="0" lang="en-IE" sz="2400" spc="-1" strike="noStrike">
                <a:solidFill>
                  <a:srgbClr val="000000"/>
                </a:solidFill>
                <a:latin typeface="Times New Roman"/>
              </a:rPr>
              <a:t>. Thus, in the circuit above, the electric power delivered to the resistor is P = 3.3V x 1A, or 3.3Watts and in one second, 3.3W x 1second or 3.3J of energy is dissipat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3EC4-D626-4CD7-9415-34132B30C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EC73A-0096-48E2-9349-D8AF8618F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3716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40384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B72F-B95A-44A0-A24F-097B88201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180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3905D-58D4-4020-835A-35FE4C5BA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100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3008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100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3008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02DA4-0DFE-45CD-9A52-3BB39DF4C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3716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54335-57DB-47A5-BBCC-B3B7D1143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3716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A25AA-542B-41BF-81F1-CB3E49BD9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180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83F78-2561-4EDC-8A10-6014EB7F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5382-BE7D-4713-A235-7CAE260BB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19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56A67-6AD9-418D-979B-3DBFC3E8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180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DEFB-DE82-4E82-A078-7141DF01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180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6B750-577B-444E-A518-F420C5749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40384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AAB1-8BEE-4405-A623-0B254BBC0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371600"/>
            <a:ext cx="883944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2C34-C83D-4FA9-AEE6-4F7D2FBDC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ic Circui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and Electronic Circuits</a:t>
            </a:r>
            <a:endParaRPr b="0" lang="en-US" sz="4400" spc="-1" strike="noStrike">
              <a:solidFill>
                <a:srgbClr val="000000"/>
              </a:solidFill>
              <a:latin typeface="Times New Roman"/>
            </a:endParaRPr>
          </a:p>
        </p:txBody>
      </p:sp>
      <p:sp>
        <p:nvSpPr>
          <p:cNvPr id="70" name=""/>
          <p:cNvSpPr txBox="1"/>
          <p:nvPr/>
        </p:nvSpPr>
        <p:spPr>
          <a:xfrm>
            <a:off x="152280" y="1371600"/>
            <a:ext cx="8839440" cy="510552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re collection of electronic components that have been assembled and interconnected to perform a given function</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word circuit derives from the fact that electric power must flow from the positive terminal of a power source through one or more electronic devices and back to the negative terminal of a power source, thereby forming a circuit. </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f the connections between an electronic device and either the positive or negative terminals of a power supply are interrupted, the circuit will be broken and the device will not function</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onents in a circuit are connected to one another by means of electrical conductors or wire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amples of components: resistors, capacitors, diodes, transistor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gital Circuits</a:t>
            </a:r>
            <a:endParaRPr b="0" lang="en-US" sz="4400" spc="-1" strike="noStrike">
              <a:solidFill>
                <a:srgbClr val="000000"/>
              </a:solidFill>
              <a:latin typeface="Times New Roman"/>
            </a:endParaRPr>
          </a:p>
        </p:txBody>
      </p:sp>
      <p:pic>
        <p:nvPicPr>
          <p:cNvPr id="72" name="Picture 4" descr=""/>
          <p:cNvPicPr/>
          <p:nvPr/>
        </p:nvPicPr>
        <p:blipFill>
          <a:blip r:embed="rId1"/>
          <a:stretch/>
        </p:blipFill>
        <p:spPr>
          <a:xfrm>
            <a:off x="152280" y="2143080"/>
            <a:ext cx="8839440" cy="35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ower Supply in Digital Circuits</a:t>
            </a:r>
            <a:endParaRPr b="0" lang="en-US" sz="4400" spc="-1" strike="noStrike">
              <a:solidFill>
                <a:srgbClr val="000000"/>
              </a:solidFill>
              <a:latin typeface="Times New Roman"/>
            </a:endParaRPr>
          </a:p>
        </p:txBody>
      </p:sp>
      <p:sp>
        <p:nvSpPr>
          <p:cNvPr id="74" name=""/>
          <p:cNvSpPr txBox="1"/>
          <p:nvPr/>
        </p:nvSpPr>
        <p:spPr>
          <a:xfrm>
            <a:off x="151920" y="1371600"/>
            <a:ext cx="6705720" cy="2362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a digital circuit power supply voltage levels are constrained to two distinct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Logic High Voltage” (called LHV or Vdd) a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Logic Low Voltage” (called LLV or G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DD may be thought as source of positive charge while GND source of negative charge in a circu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2" descr=""/>
          <p:cNvPicPr/>
          <p:nvPr/>
        </p:nvPicPr>
        <p:blipFill>
          <a:blip r:embed="rId1"/>
          <a:stretch/>
        </p:blipFill>
        <p:spPr>
          <a:xfrm>
            <a:off x="6858000" y="1305000"/>
            <a:ext cx="2266920" cy="2209680"/>
          </a:xfrm>
          <a:prstGeom prst="rect">
            <a:avLst/>
          </a:prstGeom>
          <a:ln w="0">
            <a:noFill/>
          </a:ln>
        </p:spPr>
      </p:pic>
      <p:sp>
        <p:nvSpPr>
          <p:cNvPr id="76" name="TextBox 1"/>
          <p:cNvSpPr/>
          <p:nvPr/>
        </p:nvSpPr>
        <p:spPr>
          <a:xfrm>
            <a:off x="76320" y="3733920"/>
            <a:ext cx="8991360" cy="2685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GND net in any circuit is the universal reference voltage against which all other voltages are measured. </a:t>
            </a:r>
            <a:endParaRPr b="0" lang="en-US" sz="24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y nodes labelled GND in a schematic are assumed to be connected into the same node. Often, a downward pointing triangle symbol is attached to a GND node in addition to (or instead of) the GND label</a:t>
            </a:r>
            <a:r>
              <a:rPr b="0" lang="en-IE"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Vdd node in a digital circuit is typically the highest voltage</a:t>
            </a:r>
            <a:endParaRPr b="0" lang="en-US" sz="24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ll nodes labelled Vdd are tied together into the same nod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view of Zeros and Ones</a:t>
            </a:r>
            <a:endParaRPr b="0" lang="en-US" sz="4400" spc="-1" strike="noStrike">
              <a:solidFill>
                <a:srgbClr val="000000"/>
              </a:solidFill>
              <a:latin typeface="Times New Roman"/>
            </a:endParaRPr>
          </a:p>
        </p:txBody>
      </p:sp>
      <p:sp>
        <p:nvSpPr>
          <p:cNvPr id="78" name=""/>
          <p:cNvSpPr txBox="1"/>
          <p:nvPr/>
        </p:nvSpPr>
        <p:spPr>
          <a:xfrm>
            <a:off x="152280" y="1371240"/>
            <a:ext cx="8839440" cy="5181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data in digital circuits are represented by sign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signal in a digital circuit is a circuit net that transports an output voltage (either VDD or GND) from one device to one or more inputs connections of other device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set of voltage values {Vdd, GND} that define the state of a signal wire in a digital system are commonly represented by the numeric symbols {1, 0}, with ‘1’ representing Vdd and ‘0’ representing GND.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t follows that data in digital symbols can be represented by binary (base two) numbers. One signal wire in a digital circuit can carry one binary digit ( “bit”) of information; </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Groupings of signal wires   (called “bus”) can carry multiple bits that can define a binary numb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lectronic Circuit Components</a:t>
            </a:r>
            <a:endParaRPr b="0" lang="en-US" sz="4400" spc="-1" strike="noStrike">
              <a:solidFill>
                <a:srgbClr val="000000"/>
              </a:solidFill>
              <a:latin typeface="Times New Roman"/>
            </a:endParaRPr>
          </a:p>
        </p:txBody>
      </p:sp>
      <p:sp>
        <p:nvSpPr>
          <p:cNvPr id="80" name=""/>
          <p:cNvSpPr txBox="1"/>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sis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apaci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Out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nne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rinted Circuit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tegrated Circu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82" name=""/>
          <p:cNvSpPr txBox="1"/>
          <p:nvPr/>
        </p:nvSpPr>
        <p:spPr>
          <a:xfrm>
            <a:off x="152280" y="1371600"/>
            <a:ext cx="59436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terminal devices that restrict, or resist, the flow of curr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larger the resistor the less current can flow through it for a given voltage as demonstrated by Ohm’s law: V= I*R</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lectrons flowing through a resistor collide with material in the resistor body, and it is these collisions that cause electrical resista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se collisions cause energy to be dissipated in the form of heat or light (as in a toaster or light bulb). </a:t>
            </a:r>
            <a:endParaRPr b="0" lang="en-US" sz="2000" spc="-1" strike="noStrike">
              <a:solidFill>
                <a:srgbClr val="000000"/>
              </a:solidFill>
              <a:latin typeface="Times New Roman"/>
            </a:endParaRPr>
          </a:p>
        </p:txBody>
      </p:sp>
      <p:pic>
        <p:nvPicPr>
          <p:cNvPr id="83" name="Picture 3" descr="C:\Documents and Settings\pbigioi\Desktop\Zero_ohm_resistors_cropped.jpg"/>
          <p:cNvPicPr/>
          <p:nvPr/>
        </p:nvPicPr>
        <p:blipFill>
          <a:blip r:embed="rId1"/>
          <a:stretch/>
        </p:blipFill>
        <p:spPr>
          <a:xfrm>
            <a:off x="6781680" y="4800600"/>
            <a:ext cx="1981440" cy="1322280"/>
          </a:xfrm>
          <a:prstGeom prst="rect">
            <a:avLst/>
          </a:prstGeom>
          <a:ln w="0">
            <a:noFill/>
          </a:ln>
        </p:spPr>
      </p:pic>
      <p:pic>
        <p:nvPicPr>
          <p:cNvPr id="84" name="Picture 6" descr="C:\Documents and Settings\pbigioi\Desktop\100px-Resistor_symbol_America_svg.png"/>
          <p:cNvPicPr/>
          <p:nvPr/>
        </p:nvPicPr>
        <p:blipFill>
          <a:blip r:embed="rId2"/>
          <a:stretch/>
        </p:blipFill>
        <p:spPr>
          <a:xfrm>
            <a:off x="6858000" y="1371600"/>
            <a:ext cx="952560" cy="762120"/>
          </a:xfrm>
          <a:prstGeom prst="rect">
            <a:avLst/>
          </a:prstGeom>
          <a:ln w="0">
            <a:noFill/>
          </a:ln>
        </p:spPr>
      </p:pic>
      <p:pic>
        <p:nvPicPr>
          <p:cNvPr id="85" name="Picture 7" descr="C:\Documents and Settings\pbigioi\Desktop\Carbon-resistor-TR212-1.jpg"/>
          <p:cNvPicPr/>
          <p:nvPr/>
        </p:nvPicPr>
        <p:blipFill>
          <a:blip r:embed="rId3"/>
          <a:stretch/>
        </p:blipFill>
        <p:spPr>
          <a:xfrm>
            <a:off x="6781680" y="3200400"/>
            <a:ext cx="2009880" cy="762120"/>
          </a:xfrm>
          <a:prstGeom prst="rect">
            <a:avLst/>
          </a:prstGeom>
          <a:ln w="0">
            <a:noFill/>
          </a:ln>
        </p:spPr>
      </p:pic>
      <p:sp>
        <p:nvSpPr>
          <p:cNvPr id="86" name="TextBox 10"/>
          <p:cNvSpPr/>
          <p:nvPr/>
        </p:nvSpPr>
        <p:spPr>
          <a:xfrm>
            <a:off x="6792480" y="1981080"/>
            <a:ext cx="152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sistor Symbol</a:t>
            </a:r>
            <a:endParaRPr b="0" lang="en-US" sz="1600" spc="-1" strike="noStrike">
              <a:solidFill>
                <a:srgbClr val="000000"/>
              </a:solidFill>
              <a:latin typeface="Times New Roman"/>
            </a:endParaRPr>
          </a:p>
        </p:txBody>
      </p:sp>
      <p:sp>
        <p:nvSpPr>
          <p:cNvPr id="87" name="TextBox 11"/>
          <p:cNvSpPr/>
          <p:nvPr/>
        </p:nvSpPr>
        <p:spPr>
          <a:xfrm>
            <a:off x="6791760" y="3962520"/>
            <a:ext cx="196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arbon Film Throu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Hole Resistor</a:t>
            </a:r>
            <a:endParaRPr b="0" lang="en-US" sz="1600" spc="-1" strike="noStrike">
              <a:solidFill>
                <a:srgbClr val="000000"/>
              </a:solidFill>
              <a:latin typeface="Times New Roman"/>
            </a:endParaRPr>
          </a:p>
        </p:txBody>
      </p:sp>
      <p:sp>
        <p:nvSpPr>
          <p:cNvPr id="88" name="TextBox 12"/>
          <p:cNvSpPr/>
          <p:nvPr/>
        </p:nvSpPr>
        <p:spPr>
          <a:xfrm>
            <a:off x="6792120" y="6095880"/>
            <a:ext cx="144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urface Mou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sist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90" name=""/>
          <p:cNvSpPr txBox="1"/>
          <p:nvPr/>
        </p:nvSpPr>
        <p:spPr>
          <a:xfrm>
            <a:off x="152280" y="1371600"/>
            <a:ext cx="8839440" cy="510552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amount of power (in Watts) dissipated in a resistor can be calculated using the equation P= I*V = I</a:t>
            </a:r>
            <a:r>
              <a:rPr b="0" lang="en-IE" sz="2800" spc="-1" strike="noStrike" baseline="30000">
                <a:solidFill>
                  <a:srgbClr val="000000"/>
                </a:solidFill>
                <a:latin typeface="Times New Roman"/>
              </a:rPr>
              <a:t>2</a:t>
            </a:r>
            <a:r>
              <a:rPr b="0" lang="en-IE" sz="2800" spc="-1" strike="noStrike">
                <a:solidFill>
                  <a:srgbClr val="000000"/>
                </a:solidFill>
                <a:latin typeface="Times New Roman"/>
              </a:rPr>
              <a:t>R) </a:t>
            </a:r>
            <a:endParaRPr b="0" lang="en-US" sz="2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resistor that can dissipate about 5 Watts of power would be about the size of a writing pen, and a resistor that can only dissipate 1/8 Watt is about the size of a grain of rice. If a resistor is placed in a circuit where it must dissipate more that its intended power, it will simply melt.</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physical size and appearance of a resistor is determined by the required application.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sistors that must dissipate large amounts of energy (such as in a toaster) are relatively large, whereas resistors that dissipate small amounts of current are relatively small.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one-ohm resistance is a relatively small value, and 100KOhm resistance is a relatively large value. </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apacitors</a:t>
            </a:r>
            <a:endParaRPr b="0" lang="en-US" sz="4400" spc="-1" strike="noStrike">
              <a:solidFill>
                <a:srgbClr val="000000"/>
              </a:solidFill>
              <a:latin typeface="Times New Roman"/>
            </a:endParaRPr>
          </a:p>
        </p:txBody>
      </p:sp>
      <p:sp>
        <p:nvSpPr>
          <p:cNvPr id="92" name=""/>
          <p:cNvSpPr txBox="1"/>
          <p:nvPr/>
        </p:nvSpPr>
        <p:spPr>
          <a:xfrm>
            <a:off x="152280" y="1371600"/>
            <a:ext cx="6096240" cy="510552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terminal device that can store electric energy in the form of charged particles.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You can think of a capacitor as a reservoir of charge that takes time to fill or empty.</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voltage across a capacitor is proportional to the amount of charge it is storing – the more charge added to a capacitor of a given size, the larger the voltage across the capacitor.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t is not possible to instantaneously move charge to or from a capacitor, so it is not possible to instantaneously change the voltage across a capacitor. It is this property that makes capacitors useful on many applications.</a:t>
            </a:r>
            <a:endParaRPr b="0" lang="en-US" sz="2000" spc="-1" strike="noStrike">
              <a:solidFill>
                <a:srgbClr val="000000"/>
              </a:solidFill>
              <a:latin typeface="Times New Roman"/>
            </a:endParaRPr>
          </a:p>
        </p:txBody>
      </p:sp>
      <p:pic>
        <p:nvPicPr>
          <p:cNvPr id="93" name="Picture 3" descr=""/>
          <p:cNvPicPr/>
          <p:nvPr/>
        </p:nvPicPr>
        <p:blipFill>
          <a:blip r:embed="rId1"/>
          <a:stretch/>
        </p:blipFill>
        <p:spPr>
          <a:xfrm>
            <a:off x="6954840" y="1700280"/>
            <a:ext cx="1787400" cy="946080"/>
          </a:xfrm>
          <a:prstGeom prst="rect">
            <a:avLst/>
          </a:prstGeom>
          <a:ln w="0">
            <a:noFill/>
          </a:ln>
        </p:spPr>
      </p:pic>
      <p:sp>
        <p:nvSpPr>
          <p:cNvPr id="94" name="TextBox 5"/>
          <p:cNvSpPr/>
          <p:nvPr/>
        </p:nvSpPr>
        <p:spPr>
          <a:xfrm>
            <a:off x="7089840" y="2590920"/>
            <a:ext cx="147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Capacitor Symbol</a:t>
            </a:r>
            <a:endParaRPr b="0" lang="en-US" sz="1400" spc="-1" strike="noStrike">
              <a:solidFill>
                <a:srgbClr val="000000"/>
              </a:solidFill>
              <a:latin typeface="Times New Roman"/>
            </a:endParaRPr>
          </a:p>
        </p:txBody>
      </p:sp>
      <p:pic>
        <p:nvPicPr>
          <p:cNvPr id="95" name="Picture 5" descr="C:\Documents and Settings\pbigioi\Desktop\Photo-SMDcapacitors.jpg"/>
          <p:cNvPicPr/>
          <p:nvPr/>
        </p:nvPicPr>
        <p:blipFill>
          <a:blip r:embed="rId2"/>
          <a:stretch/>
        </p:blipFill>
        <p:spPr>
          <a:xfrm>
            <a:off x="6477120" y="3429000"/>
            <a:ext cx="2135160" cy="1600200"/>
          </a:xfrm>
          <a:prstGeom prst="rect">
            <a:avLst/>
          </a:prstGeom>
          <a:ln w="0">
            <a:noFill/>
          </a:ln>
        </p:spPr>
      </p:pic>
      <p:sp>
        <p:nvSpPr>
          <p:cNvPr id="96" name="TextBox 8"/>
          <p:cNvSpPr/>
          <p:nvPr/>
        </p:nvSpPr>
        <p:spPr>
          <a:xfrm>
            <a:off x="6477120" y="5181480"/>
            <a:ext cx="2514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MD ceramic at top lef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MD tantalum at bottom le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rough-hole tantalum at top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rough-hole electrolytic at bottom righ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acitors</a:t>
            </a:r>
            <a:endParaRPr b="0" lang="en-US" sz="4400" spc="-1" strike="noStrike">
              <a:solidFill>
                <a:srgbClr val="000000"/>
              </a:solidFill>
              <a:latin typeface="Times New Roman"/>
            </a:endParaRPr>
          </a:p>
        </p:txBody>
      </p:sp>
      <p:sp>
        <p:nvSpPr>
          <p:cNvPr id="98"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apacitance is measured in Farad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one Farad capacitor can store one Coulomb of charge at one vol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or engineering on a small scale (i.e., hand-held or desk-top devices), a one Farad capacitor stores far too much charge to be of general use (it would be like a car having a 1000 gallon gas tank). </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ore useful capacitors are measured in micro-farads (uF) or pico-farads (pF).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terms "milli-farad“ and "nano-farad" are rarely used. Large capacitors often have their value printed plainly on them, such as "10 uF" (for 10 microfard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nput Devices (Buttons &amp; Switches)</a:t>
            </a:r>
            <a:endParaRPr b="0" lang="en-US" sz="4400" spc="-1" strike="noStrike">
              <a:solidFill>
                <a:srgbClr val="000000"/>
              </a:solidFill>
              <a:latin typeface="Times New Roman"/>
            </a:endParaRPr>
          </a:p>
        </p:txBody>
      </p:sp>
      <p:sp>
        <p:nvSpPr>
          <p:cNvPr id="100" name=""/>
          <p:cNvSpPr txBox="1"/>
          <p:nvPr/>
        </p:nvSpPr>
        <p:spPr>
          <a:xfrm>
            <a:off x="152280" y="1371240"/>
            <a:ext cx="8763120" cy="3429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put devices like buttons and switches should be able to produce VDD or GND based on some user a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slide switches are also known as “single throw-double pole” (STDP) switches, because only one switch (or throw) exists, but two positions (or poles) are avail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push button switches are “momentary” contact buttons</a:t>
            </a:r>
            <a:endParaRPr b="0" lang="en-US" sz="2400" spc="-1" strike="noStrike">
              <a:solidFill>
                <a:srgbClr val="000000"/>
              </a:solidFill>
              <a:latin typeface="Times New Roman"/>
            </a:endParaRPr>
          </a:p>
        </p:txBody>
      </p:sp>
      <p:sp>
        <p:nvSpPr>
          <p:cNvPr id="101" name="TextBox 4"/>
          <p:cNvSpPr/>
          <p:nvPr/>
        </p:nvSpPr>
        <p:spPr>
          <a:xfrm>
            <a:off x="1683360" y="6488280"/>
            <a:ext cx="591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ush Button Switch                                              STDP Switch</a:t>
            </a:r>
            <a:endParaRPr b="0" lang="en-US" sz="1800" spc="-1" strike="noStrike">
              <a:solidFill>
                <a:srgbClr val="000000"/>
              </a:solidFill>
              <a:latin typeface="Times New Roman"/>
            </a:endParaRPr>
          </a:p>
        </p:txBody>
      </p:sp>
      <p:pic>
        <p:nvPicPr>
          <p:cNvPr id="102" name="Picture 6" descr="C:\Users\pbigioi\Desktop\Picture1.png"/>
          <p:cNvPicPr/>
          <p:nvPr/>
        </p:nvPicPr>
        <p:blipFill>
          <a:blip r:embed="rId1"/>
          <a:stretch/>
        </p:blipFill>
        <p:spPr>
          <a:xfrm>
            <a:off x="1600200" y="5029200"/>
            <a:ext cx="5848200" cy="15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view the definition of voltage, electric current, resistance and powe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roduction to various electronic compon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roduction to FET transistor design and principle of oper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Use of FET transistor in logic circui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Understand  a logic gate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utput Devices</a:t>
            </a:r>
            <a:endParaRPr b="0" lang="en-US" sz="4400" spc="-1" strike="noStrike">
              <a:solidFill>
                <a:srgbClr val="000000"/>
              </a:solidFill>
              <a:latin typeface="Times New Roman"/>
            </a:endParaRPr>
          </a:p>
        </p:txBody>
      </p:sp>
      <p:sp>
        <p:nvSpPr>
          <p:cNvPr id="104" name=""/>
          <p:cNvSpPr txBox="1"/>
          <p:nvPr/>
        </p:nvSpPr>
        <p:spPr>
          <a:xfrm>
            <a:off x="152280" y="1371240"/>
            <a:ext cx="8839440" cy="4419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clude computer monitors, LCD alphanumeric panels (as on a calculator), small lamps or light-emitting diodes (LED'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ypical demo boards include some number of individual LED's, and seven-segment LED displays that can display the digits 0-9 in each digit position (each segment in the seven-segment display contains a single L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ED's are two-terminal semiconductor devices (diodes) that conduct current in only one direction (from the anode to the cathode). </a:t>
            </a:r>
            <a:endParaRPr b="0" lang="en-US" sz="2400" spc="-1" strike="noStrike">
              <a:solidFill>
                <a:srgbClr val="000000"/>
              </a:solidFill>
              <a:latin typeface="Times New Roman"/>
            </a:endParaRPr>
          </a:p>
        </p:txBody>
      </p:sp>
      <p:pic>
        <p:nvPicPr>
          <p:cNvPr id="105" name="Picture 6" descr=""/>
          <p:cNvPicPr/>
          <p:nvPr/>
        </p:nvPicPr>
        <p:blipFill>
          <a:blip r:embed="rId1"/>
          <a:stretch/>
        </p:blipFill>
        <p:spPr>
          <a:xfrm>
            <a:off x="7283520" y="5410080"/>
            <a:ext cx="1860480" cy="136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utput Devices</a:t>
            </a:r>
            <a:endParaRPr b="0" lang="en-US" sz="4400" spc="-1" strike="noStrike">
              <a:solidFill>
                <a:srgbClr val="000000"/>
              </a:solidFill>
              <a:latin typeface="Times New Roman"/>
            </a:endParaRPr>
          </a:p>
        </p:txBody>
      </p:sp>
      <p:sp>
        <p:nvSpPr>
          <p:cNvPr id="107" name=""/>
          <p:cNvSpPr txBox="1"/>
          <p:nvPr/>
        </p:nvSpPr>
        <p:spPr>
          <a:xfrm>
            <a:off x="152280" y="1371600"/>
            <a:ext cx="8839440" cy="2286000"/>
          </a:xfrm>
          <a:prstGeom prst="rect">
            <a:avLst/>
          </a:prstGeom>
          <a:noFill/>
          <a:ln w="0">
            <a:noFill/>
          </a:ln>
        </p:spPr>
        <p:txBody>
          <a:bodyPr anchor="t">
            <a:normAutofit fontScale="71000"/>
          </a:bodyPr>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ED chips are secured inside a plastic housing, and they emit light at a given frequency (RED, YELLOW, etc.) when a small electric current (typically 10mA to 25mA – a catalogue value) flows through them.</a:t>
            </a: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EDs will not turn on unless their anodes are some minimal voltage above their cathodes, typically about two volts (a catalogue value too). If less than the minimum threshold voltage is applied to an LED, it will remain dark.</a:t>
            </a:r>
            <a:endParaRPr b="0" lang="en-US" sz="2400" spc="-1" strike="noStrike">
              <a:solidFill>
                <a:srgbClr val="000000"/>
              </a:solidFill>
              <a:latin typeface="Times New Roman"/>
            </a:endParaRPr>
          </a:p>
          <a:p>
            <a:pPr lvl="1" marL="527400" indent="-202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Content Placeholder 2"/>
          <p:cNvSpPr/>
          <p:nvPr/>
        </p:nvSpPr>
        <p:spPr>
          <a:xfrm>
            <a:off x="838080" y="4876920"/>
            <a:ext cx="5643720" cy="144756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ED requires a 2V drop to turn on, leaving 1.3V to drop across the resistor. Thus, a 130 ohm resistor is required to cause 10mA of current to flow in the circuit (3.3V – 2V = 1.3V and 1.3V / 130 ohms = 10mA).</a:t>
            </a:r>
            <a:endParaRPr b="0" lang="en-US" sz="2000" spc="-1" strike="noStrike">
              <a:solidFill>
                <a:srgbClr val="000000"/>
              </a:solidFill>
              <a:latin typeface="Times New Roman"/>
            </a:endParaRPr>
          </a:p>
        </p:txBody>
      </p:sp>
      <p:pic>
        <p:nvPicPr>
          <p:cNvPr id="109" name="Picture 2" descr=""/>
          <p:cNvPicPr/>
          <p:nvPr/>
        </p:nvPicPr>
        <p:blipFill>
          <a:blip r:embed="rId1"/>
          <a:stretch/>
        </p:blipFill>
        <p:spPr>
          <a:xfrm>
            <a:off x="6324480" y="4861080"/>
            <a:ext cx="2676600" cy="146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nectors</a:t>
            </a:r>
            <a:endParaRPr b="0" lang="en-US" sz="4400" spc="-1" strike="noStrike">
              <a:solidFill>
                <a:srgbClr val="000000"/>
              </a:solidFill>
              <a:latin typeface="Times New Roman"/>
            </a:endParaRPr>
          </a:p>
        </p:txBody>
      </p:sp>
      <p:sp>
        <p:nvSpPr>
          <p:cNvPr id="111" name=""/>
          <p:cNvSpPr txBox="1"/>
          <p:nvPr/>
        </p:nvSpPr>
        <p:spPr>
          <a:xfrm>
            <a:off x="152280" y="1371600"/>
            <a:ext cx="8839440" cy="1828800"/>
          </a:xfrm>
          <a:prstGeom prst="rect">
            <a:avLst/>
          </a:prstGeom>
          <a:noFill/>
          <a:ln w="0">
            <a:noFill/>
          </a:ln>
        </p:spPr>
        <p:txBody>
          <a:bodyPr anchor="t">
            <a:normAutofit fontScale="79000"/>
          </a:bodyPr>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y all communicate electronic information between the board and outside devices. </a:t>
            </a:r>
            <a:endParaRPr b="0"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ince connectors come in so many different sizes and shapes, they are usually shown on the PCB silk screen and on circuit schematics as just rectangular boxes using a “J” labelling.</a:t>
            </a:r>
            <a:endParaRPr b="0" lang="en-US" sz="2400" spc="-1" strike="noStrike">
              <a:solidFill>
                <a:srgbClr val="000000"/>
              </a:solidFill>
              <a:latin typeface="Times New Roman"/>
            </a:endParaRPr>
          </a:p>
        </p:txBody>
      </p:sp>
      <p:pic>
        <p:nvPicPr>
          <p:cNvPr id="112" name="Picture 2" descr=""/>
          <p:cNvPicPr/>
          <p:nvPr/>
        </p:nvPicPr>
        <p:blipFill>
          <a:blip r:embed="rId1"/>
          <a:stretch/>
        </p:blipFill>
        <p:spPr>
          <a:xfrm>
            <a:off x="609480" y="3809880"/>
            <a:ext cx="7925040" cy="280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inted Circuit Board</a:t>
            </a:r>
            <a:endParaRPr b="0" lang="en-US" sz="4400" spc="-1" strike="noStrike">
              <a:solidFill>
                <a:srgbClr val="000000"/>
              </a:solidFill>
              <a:latin typeface="Times New Roman"/>
            </a:endParaRPr>
          </a:p>
        </p:txBody>
      </p:sp>
      <p:sp>
        <p:nvSpPr>
          <p:cNvPr id="114" name=""/>
          <p:cNvSpPr txBox="1"/>
          <p:nvPr/>
        </p:nvSpPr>
        <p:spPr>
          <a:xfrm>
            <a:off x="151920" y="1371600"/>
            <a:ext cx="43434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lat surface known as PC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 broad categori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totype or experimental circuits (breadboards or proto-board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duction and/or commercial sale.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duction circuit boards design is done using CAD software (e.g. OrCAD, Protel, etc..). </a:t>
            </a:r>
            <a:endParaRPr b="0" lang="en-US" sz="2400" spc="-1" strike="noStrike">
              <a:solidFill>
                <a:srgbClr val="000000"/>
              </a:solidFill>
              <a:latin typeface="Times New Roman"/>
            </a:endParaRPr>
          </a:p>
        </p:txBody>
      </p:sp>
      <p:pic>
        <p:nvPicPr>
          <p:cNvPr id="115" name="Picture 2" descr=""/>
          <p:cNvPicPr/>
          <p:nvPr/>
        </p:nvPicPr>
        <p:blipFill>
          <a:blip r:embed="rId1"/>
          <a:stretch/>
        </p:blipFill>
        <p:spPr>
          <a:xfrm>
            <a:off x="5181480" y="1523880"/>
            <a:ext cx="3151440" cy="460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ntegrated Circuits</a:t>
            </a:r>
            <a:endParaRPr b="0" lang="en-US" sz="4400" spc="-1" strike="noStrike">
              <a:solidFill>
                <a:srgbClr val="000000"/>
              </a:solidFill>
              <a:latin typeface="Times New Roman"/>
            </a:endParaRPr>
          </a:p>
        </p:txBody>
      </p:sp>
      <p:sp>
        <p:nvSpPr>
          <p:cNvPr id="117" name=""/>
          <p:cNvSpPr txBox="1"/>
          <p:nvPr/>
        </p:nvSpPr>
        <p:spPr>
          <a:xfrm>
            <a:off x="152280" y="1295280"/>
            <a:ext cx="8839440" cy="289584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emiconductor circuits that use collections microscopic transistors that are all co-located on the same small piece of silicon. Represented with “U” on schematics or PCB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Various functions from simple logic to highly complex processing functions. </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ome chips contain just a handful of transistors, while others contain sever al hundred million transistors (e.g. Intel processors). </a:t>
            </a:r>
            <a:endParaRPr b="0" lang="en-US" sz="2000" spc="-1" strike="noStrike">
              <a:solidFill>
                <a:srgbClr val="000000"/>
              </a:solidFill>
              <a:latin typeface="Times New Roman"/>
            </a:endParaRPr>
          </a:p>
        </p:txBody>
      </p:sp>
      <p:pic>
        <p:nvPicPr>
          <p:cNvPr id="118" name="Picture 2" descr=""/>
          <p:cNvPicPr/>
          <p:nvPr/>
        </p:nvPicPr>
        <p:blipFill>
          <a:blip r:embed="rId1"/>
          <a:stretch/>
        </p:blipFill>
        <p:spPr>
          <a:xfrm>
            <a:off x="1295280" y="4343400"/>
            <a:ext cx="6266160" cy="1828800"/>
          </a:xfrm>
          <a:prstGeom prst="rect">
            <a:avLst/>
          </a:prstGeom>
          <a:ln w="0">
            <a:noFill/>
          </a:ln>
        </p:spPr>
      </p:pic>
      <p:sp>
        <p:nvSpPr>
          <p:cNvPr id="119" name="TextBox 1"/>
          <p:cNvSpPr/>
          <p:nvPr/>
        </p:nvSpPr>
        <p:spPr>
          <a:xfrm>
            <a:off x="1768680" y="6248520"/>
            <a:ext cx="552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al In-line Package vs Plastic Leaded Chip Carr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gital Circuits</a:t>
            </a:r>
            <a:endParaRPr b="0" lang="en-US" sz="4400" spc="-1" strike="noStrike">
              <a:solidFill>
                <a:srgbClr val="000000"/>
              </a:solidFill>
              <a:latin typeface="Times New Roman"/>
            </a:endParaRPr>
          </a:p>
        </p:txBody>
      </p:sp>
      <p:sp>
        <p:nvSpPr>
          <p:cNvPr id="121" name="PlaceHolder 2"/>
          <p:cNvSpPr>
            <a:spLocks noGrp="1"/>
          </p:cNvSpPr>
          <p:nvPr>
            <p:ph/>
          </p:nvPr>
        </p:nvSpPr>
        <p:spPr>
          <a:xfrm>
            <a:off x="0" y="1371600"/>
            <a:ext cx="876312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digital circuit represents and manipulates information encoded as electric signals that can assume one of two Vdd or GN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a given circuit net is at Vdd, then that signal is said to carry a logic ‘1’; if the net is at GND, then the node carries a logic ‘0’</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mponents in digital circuits are simple on/off switches that can pass logic ‘1’ and logic ‘0’ signals from one circuit net to another.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typically, these switches are arranged to combine input signals to produce an output signal according to basic logic relationship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igital Circuits</a:t>
            </a:r>
            <a:endParaRPr b="0" lang="en-US" sz="4400" spc="-1" strike="noStrike">
              <a:solidFill>
                <a:srgbClr val="000000"/>
              </a:solidFill>
              <a:latin typeface="Times New Roman"/>
            </a:endParaRPr>
          </a:p>
        </p:txBody>
      </p:sp>
      <p:sp>
        <p:nvSpPr>
          <p:cNvPr id="123" name=""/>
          <p:cNvSpPr txBox="1"/>
          <p:nvPr/>
        </p:nvSpPr>
        <p:spPr>
          <a:xfrm>
            <a:off x="152280" y="1371600"/>
            <a:ext cx="60962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ing a logic ‘1’ is closing the switch and a logic ‘0’ opens the switch, in the example the combination of switches can implement logic fun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e well-known logic circuit is an NAND gate that combines two input signals to produce an output that is the logic NAND (negative AND) of the inputs (i.e., if both input1 and input2 are a ‘1’, then the output is a ‘0’).</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other well-known logic circuit is OR gate that combines two input signlas to produce an output that is the logic OR of the inputs (i.e. if input1 or input2 are ‘1’, then the output is a ‘1’ )</a:t>
            </a:r>
            <a:endParaRPr b="0" lang="en-US" sz="2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Picture 2" descr=""/>
          <p:cNvPicPr/>
          <p:nvPr/>
        </p:nvPicPr>
        <p:blipFill>
          <a:blip r:embed="rId1"/>
          <a:stretch/>
        </p:blipFill>
        <p:spPr>
          <a:xfrm>
            <a:off x="6553080" y="1523880"/>
            <a:ext cx="1719360" cy="2590920"/>
          </a:xfrm>
          <a:prstGeom prst="rect">
            <a:avLst/>
          </a:prstGeom>
          <a:ln w="0">
            <a:noFill/>
          </a:ln>
        </p:spPr>
      </p:pic>
      <p:pic>
        <p:nvPicPr>
          <p:cNvPr id="125" name="Picture 3" descr=""/>
          <p:cNvPicPr/>
          <p:nvPr/>
        </p:nvPicPr>
        <p:blipFill>
          <a:blip r:embed="rId2"/>
          <a:stretch/>
        </p:blipFill>
        <p:spPr>
          <a:xfrm>
            <a:off x="6172200" y="4724280"/>
            <a:ext cx="2590920" cy="1811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t>
            </a:r>
            <a:r>
              <a:rPr b="0" lang="en-IE" sz="2400" spc="-1" strike="noStrike">
                <a:solidFill>
                  <a:srgbClr val="000000"/>
                </a:solidFill>
                <a:latin typeface="Times New Roman"/>
              </a:rPr>
              <a:t>. </a:t>
            </a:r>
            <a:r>
              <a:rPr b="1" i="1" lang="en-IE" sz="2400" spc="-1" strike="noStrike">
                <a:solidFill>
                  <a:srgbClr val="000000"/>
                </a:solidFill>
                <a:latin typeface="Times New Roman"/>
              </a:rPr>
              <a:t>ARE SWITCH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 arranged so that they can be turned on or off by signals carrying either VDD or GN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nsistor switches used in modern digital circuits are called “Metal Oxide Semiconductor Field Effect Transistors”, or MOSFETs (or just FET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Ts are three terminal devices that can conduct current between two terminals (the source and the drain) when a third terminal (the gate) is driven by an appropriate logic sig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nsistors</a:t>
            </a:r>
            <a:endParaRPr b="0" lang="en-US" sz="4400" spc="-1" strike="noStrike">
              <a:solidFill>
                <a:srgbClr val="000000"/>
              </a:solidFill>
              <a:latin typeface="Times New Roman"/>
            </a:endParaRPr>
          </a:p>
        </p:txBody>
      </p:sp>
      <p:sp>
        <p:nvSpPr>
          <p:cNvPr id="129" name=""/>
          <p:cNvSpPr txBox="1"/>
          <p:nvPr/>
        </p:nvSpPr>
        <p:spPr>
          <a:xfrm>
            <a:off x="152280" y="1371600"/>
            <a:ext cx="88394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implest FET model (which is appropriate for our use here), the electrical resistance between the source and the drain is a function of the gate-to-source voltag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igher the gate voltage, the lower the resistance (and therefore, the more current that can flow). </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nalog circuits (like audio amplifiers), the gate-to-source voltage is allowed to assume any voltage between GND and Vdd;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t in digital circuits, the gate-to-source voltage is constrained to be either Vdd or G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istors</a:t>
            </a:r>
            <a:endParaRPr b="0" lang="en-US" sz="4400" spc="-1" strike="noStrike">
              <a:solidFill>
                <a:srgbClr val="000000"/>
              </a:solidFill>
              <a:latin typeface="Times New Roman"/>
            </a:endParaRPr>
          </a:p>
        </p:txBody>
      </p:sp>
      <p:sp>
        <p:nvSpPr>
          <p:cNvPr id="131" name="PlaceHolder 2"/>
          <p:cNvSpPr>
            <a:spLocks noGrp="1"/>
          </p:cNvSpPr>
          <p:nvPr>
            <p:ph/>
          </p:nvPr>
        </p:nvSpPr>
        <p:spPr>
          <a:xfrm>
            <a:off x="152280" y="1371240"/>
            <a:ext cx="8839440" cy="685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ETs can be thought as electrically controllable “ON/OFF” switches</a:t>
            </a:r>
            <a:endParaRPr b="0" lang="en-US" sz="2400" spc="-1" strike="noStrike">
              <a:solidFill>
                <a:srgbClr val="000000"/>
              </a:solidFill>
              <a:latin typeface="Times New Roman"/>
            </a:endParaRPr>
          </a:p>
        </p:txBody>
      </p:sp>
      <p:pic>
        <p:nvPicPr>
          <p:cNvPr id="132" name="Picture 4" descr=""/>
          <p:cNvPicPr/>
          <p:nvPr/>
        </p:nvPicPr>
        <p:blipFill>
          <a:blip r:embed="rId1"/>
          <a:stretch/>
        </p:blipFill>
        <p:spPr>
          <a:xfrm>
            <a:off x="1143000" y="2590920"/>
            <a:ext cx="635472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al Charge</a:t>
            </a:r>
            <a:endParaRPr b="0" lang="en-US" sz="4400" spc="-1" strike="noStrike">
              <a:solidFill>
                <a:srgbClr val="000000"/>
              </a:solidFill>
              <a:latin typeface="Times New Roman"/>
            </a:endParaRPr>
          </a:p>
        </p:txBody>
      </p:sp>
      <p:sp>
        <p:nvSpPr>
          <p:cNvPr id="53" name=""/>
          <p:cNvSpPr txBox="1"/>
          <p:nvPr/>
        </p:nvSpPr>
        <p:spPr>
          <a:xfrm>
            <a:off x="152280" y="1371600"/>
            <a:ext cx="8839440" cy="510552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tter is made up of atoms that contain both protons and electron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tons are positively charged and electrons are negatively charged</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lectric field surrounds every charged particle that can exert force on other charged particle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ield strength is the same for every electron and proton, with a magnitude of one “fundamental unit” of 1.602 x 10</a:t>
            </a:r>
            <a:r>
              <a:rPr b="0" lang="en-IE" sz="2000" spc="-1" strike="noStrike" baseline="30000">
                <a:solidFill>
                  <a:srgbClr val="000000"/>
                </a:solidFill>
                <a:latin typeface="Times New Roman"/>
              </a:rPr>
              <a:t>-19</a:t>
            </a:r>
            <a:r>
              <a:rPr b="0" lang="en-IE" sz="2000" spc="-1" strike="noStrike">
                <a:solidFill>
                  <a:srgbClr val="000000"/>
                </a:solidFill>
                <a:latin typeface="Times New Roman"/>
              </a:rPr>
              <a:t> Coulombs. </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oulomb is a measure of charge derived from a measurement of electric current – one coulomb of charge is transferred by one ampere of current in one second </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o get a matter of scale, one coulomb of charge flows through a 120W light bulb in one seco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ore about Integrated Circuits</a:t>
            </a:r>
            <a:endParaRPr b="0" lang="en-US" sz="4400" spc="-1" strike="noStrike">
              <a:solidFill>
                <a:srgbClr val="000000"/>
              </a:solidFill>
              <a:latin typeface="Times New Roman"/>
            </a:endParaRPr>
          </a:p>
        </p:txBody>
      </p:sp>
      <p:sp>
        <p:nvSpPr>
          <p:cNvPr id="134"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Ts can also be arranged into circuits that perform useful logic functions such as AND, OR, NOT, etc.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very small FETs are constructed on a single small piece of silicon (or chip of silicon) and then interconnected with equally small metal wires.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microscopic FETs are typically implemented using geometries in the region of 90, 60, 45, 28 or 20 nanometre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a silicon chip might measure several millimetres on a side, several millions of FETs can be constructed on a single chip.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ircuits assembled in this fashion are said to form "integrated circuits" (or IC’s), because all circuit components are constructed and integrated on the same piece of silic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ETs Manufacturing</a:t>
            </a:r>
            <a:endParaRPr b="0" lang="en-US" sz="4400" spc="-1" strike="noStrike">
              <a:solidFill>
                <a:srgbClr val="000000"/>
              </a:solidFill>
              <a:latin typeface="Times New Roman"/>
            </a:endParaRPr>
          </a:p>
        </p:txBody>
      </p:sp>
      <p:sp>
        <p:nvSpPr>
          <p:cNvPr id="136" name="PlaceHolder 2"/>
          <p:cNvSpPr>
            <a:spLocks noGrp="1"/>
          </p:cNvSpPr>
          <p:nvPr>
            <p:ph/>
          </p:nvPr>
        </p:nvSpPr>
        <p:spPr>
          <a:xfrm>
            <a:off x="152280" y="4114800"/>
            <a:ext cx="8839440" cy="23623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ons implant to make silicon chip more conductive in the FET source and the drain regions – called diffusion reg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thin insulating layer is created between these diffusion regions, and another conductor is "grown" on top of this insulato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grown conductor (typically silicon) forms the gate, and the area immediately under the gate and between the diffusion regions is called the channel.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nally, metal wires are connected to the source, drain, and gate structures so that the FET can be connected in a larger circuit.</a:t>
            </a:r>
            <a:endParaRPr b="0" lang="en-US" sz="2000" spc="-1" strike="noStrike">
              <a:solidFill>
                <a:srgbClr val="000000"/>
              </a:solidFill>
              <a:latin typeface="Times New Roman"/>
            </a:endParaRPr>
          </a:p>
        </p:txBody>
      </p:sp>
      <p:pic>
        <p:nvPicPr>
          <p:cNvPr id="137" name="Picture 5" descr=""/>
          <p:cNvPicPr/>
          <p:nvPr/>
        </p:nvPicPr>
        <p:blipFill>
          <a:blip r:embed="rId1"/>
          <a:stretch/>
        </p:blipFill>
        <p:spPr>
          <a:xfrm>
            <a:off x="0" y="1371600"/>
            <a:ext cx="9144000" cy="2695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ETs – Principle of Operation</a:t>
            </a:r>
            <a:endParaRPr b="0" lang="en-US" sz="4400" spc="-1" strike="noStrike">
              <a:solidFill>
                <a:srgbClr val="000000"/>
              </a:solidFill>
              <a:latin typeface="Times New Roman"/>
            </a:endParaRPr>
          </a:p>
        </p:txBody>
      </p:sp>
      <p:sp>
        <p:nvSpPr>
          <p:cNvPr id="139" name=""/>
          <p:cNvSpPr txBox="1"/>
          <p:nvPr/>
        </p:nvSpPr>
        <p:spPr>
          <a:xfrm>
            <a:off x="228240" y="4343400"/>
            <a:ext cx="8839080" cy="1905120"/>
          </a:xfrm>
          <a:prstGeom prst="rect">
            <a:avLst/>
          </a:prstGeom>
          <a:solidFill>
            <a:srgbClr val="92d050"/>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source and drain diffusion areas of an nFET are implanted with negatively charged particles. When an nFET is used in a logic circuit, its source lead is connected to GND, so that the nFET source, like the GND node, has an  abundance of negatively charged particles.</a:t>
            </a:r>
            <a:endParaRPr b="0" lang="en-US" sz="2000" spc="-1" strike="noStrike">
              <a:solidFill>
                <a:srgbClr val="000000"/>
              </a:solidFill>
              <a:latin typeface="Times New Roman"/>
            </a:endParaRPr>
          </a:p>
        </p:txBody>
      </p:sp>
      <p:pic>
        <p:nvPicPr>
          <p:cNvPr id="140" name="Picture 3" descr=""/>
          <p:cNvPicPr/>
          <p:nvPr/>
        </p:nvPicPr>
        <p:blipFill>
          <a:blip r:embed="rId1"/>
          <a:stretch/>
        </p:blipFill>
        <p:spPr>
          <a:xfrm>
            <a:off x="0" y="1600200"/>
            <a:ext cx="8948880" cy="2419200"/>
          </a:xfrm>
          <a:prstGeom prst="rect">
            <a:avLst/>
          </a:prstGeom>
          <a:ln w="0">
            <a:noFill/>
          </a:ln>
        </p:spPr>
      </p:pic>
      <p:sp>
        <p:nvSpPr>
          <p:cNvPr id="141" name="Content Placeholder 2"/>
          <p:cNvSpPr/>
          <p:nvPr/>
        </p:nvSpPr>
        <p:spPr>
          <a:xfrm>
            <a:off x="257040" y="4362480"/>
            <a:ext cx="8839440" cy="1905120"/>
          </a:xfrm>
          <a:prstGeom prst="rect">
            <a:avLst/>
          </a:prstGeom>
          <a:solidFill>
            <a:srgbClr val="92d050"/>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the gate voltage of an nFET is at the same voltage as the source lead (i.e., GND), then the presence of the negatively charged particles on the gate repels negatively charged particles from the channel region immediately under the gate. A net positive charge accumulates under the gate, and two back-to-back positive-negative junctions of charge (called pn junctions) are formed. These pn junctions prevent current flow in either direction. </a:t>
            </a:r>
            <a:endParaRPr b="0" lang="en-US" sz="2000" spc="-1" strike="noStrike">
              <a:solidFill>
                <a:srgbClr val="000000"/>
              </a:solidFill>
              <a:latin typeface="Times New Roman"/>
            </a:endParaRPr>
          </a:p>
        </p:txBody>
      </p:sp>
      <p:sp>
        <p:nvSpPr>
          <p:cNvPr id="142" name="Content Placeholder 2"/>
          <p:cNvSpPr/>
          <p:nvPr/>
        </p:nvSpPr>
        <p:spPr>
          <a:xfrm>
            <a:off x="257040" y="4362480"/>
            <a:ext cx="8839440" cy="1905120"/>
          </a:xfrm>
          <a:prstGeom prst="rect">
            <a:avLst/>
          </a:prstGeom>
          <a:solidFill>
            <a:srgbClr val="92d050"/>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the voltage on the gate &gt;= the threshold voltage (about 0.5V), positive charges begin to accumulate on the gate and positive charges in the channel region immediately under the gate are repelled. A net negative charge accumulates under the gate, forming a channel of continuous conductive region in the area under the gate and between the source and drain diffusion areas. When the gate voltage reaches Vdd, a large conductive channel forms and the nFET is “strongly”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ETs Summary</a:t>
            </a:r>
            <a:endParaRPr b="0" lang="en-US" sz="4400" spc="-1" strike="noStrike">
              <a:solidFill>
                <a:srgbClr val="000000"/>
              </a:solidFill>
              <a:latin typeface="Times New Roman"/>
            </a:endParaRPr>
          </a:p>
        </p:txBody>
      </p:sp>
      <p:sp>
        <p:nvSpPr>
          <p:cNvPr id="144" name=""/>
          <p:cNvSpPr txBox="1"/>
          <p:nvPr/>
        </p:nvSpPr>
        <p:spPr>
          <a:xfrm>
            <a:off x="152280" y="3885840"/>
            <a:ext cx="8839440" cy="2590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nFETs used in logic circuits have their source leads attached to GND and Vdd on their gate turns them 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FETs have their source leads attached to Vdd and GND on their gate turns them on</a:t>
            </a:r>
            <a:endParaRPr b="0" lang="en-US" sz="2400" spc="-1" strike="noStrike">
              <a:solidFill>
                <a:srgbClr val="000000"/>
              </a:solidFill>
              <a:latin typeface="Times New Roman"/>
            </a:endParaRPr>
          </a:p>
        </p:txBody>
      </p:sp>
      <p:pic>
        <p:nvPicPr>
          <p:cNvPr id="145" name="Picture 5" descr="C:\Users\pbigioi\Desktop\Picture2.png"/>
          <p:cNvPicPr/>
          <p:nvPr/>
        </p:nvPicPr>
        <p:blipFill>
          <a:blip r:embed="rId1"/>
          <a:stretch/>
        </p:blipFill>
        <p:spPr>
          <a:xfrm>
            <a:off x="0" y="1828800"/>
            <a:ext cx="9144000" cy="161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imes New Roman"/>
              </a:rPr>
              <a:t>Rules for Digital Logic Circuits with FETs</a:t>
            </a:r>
            <a:endParaRPr b="0" lang="en-US" sz="3600" spc="-1" strike="noStrike">
              <a:solidFill>
                <a:srgbClr val="000000"/>
              </a:solidFill>
              <a:latin typeface="Times New Roman"/>
            </a:endParaRPr>
          </a:p>
        </p:txBody>
      </p:sp>
      <p:sp>
        <p:nvSpPr>
          <p:cNvPr id="147"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FET sources must be connected to Vdd and nFET sources must be connected to G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circuit output must never be left floa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logic circuit output must never be connected to both Vdd and GND at the same tim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e., the circuit output must not be “short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circuit must use the fewest possible number of F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gital Logic Circuits with FETs</a:t>
            </a:r>
            <a:endParaRPr b="0" lang="en-US" sz="4400" spc="-1" strike="noStrike">
              <a:solidFill>
                <a:srgbClr val="000000"/>
              </a:solidFill>
              <a:latin typeface="Times New Roman"/>
            </a:endParaRPr>
          </a:p>
        </p:txBody>
      </p:sp>
      <p:sp>
        <p:nvSpPr>
          <p:cNvPr id="149" name=""/>
          <p:cNvSpPr txBox="1"/>
          <p:nvPr/>
        </p:nvSpPr>
        <p:spPr>
          <a:xfrm>
            <a:off x="152280" y="3733920"/>
            <a:ext cx="8839440" cy="274320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ND structure is created from Q1 and Q2.</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sing just these two FETs, Y is driven to GND whenever A and B are at Vdd. But we must ensure the output Y is at Vdd when A or B are at GND. </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is can be accomplished with an OR structure of pFETs (Q3 and Q4 in the parallel connection). </a:t>
            </a:r>
            <a:endParaRPr b="0" lang="en-US" sz="20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series (AND) structure and parallel (OR) structure are assembled in the circuit on the right, which is a NAND gate!</a:t>
            </a:r>
            <a:endParaRPr b="0" lang="en-US" sz="2400" spc="-1" strike="noStrike">
              <a:solidFill>
                <a:srgbClr val="000000"/>
              </a:solidFill>
              <a:latin typeface="Times New Roman"/>
            </a:endParaRPr>
          </a:p>
        </p:txBody>
      </p:sp>
      <p:pic>
        <p:nvPicPr>
          <p:cNvPr id="150" name="Picture 2" descr=""/>
          <p:cNvPicPr/>
          <p:nvPr/>
        </p:nvPicPr>
        <p:blipFill>
          <a:blip r:embed="rId1"/>
          <a:stretch/>
        </p:blipFill>
        <p:spPr>
          <a:xfrm>
            <a:off x="1219320" y="1295280"/>
            <a:ext cx="654516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Basic Logic Circuits with FETs</a:t>
            </a:r>
            <a:endParaRPr b="0" lang="en-US" sz="4400" spc="-1" strike="noStrike">
              <a:solidFill>
                <a:srgbClr val="000000"/>
              </a:solidFill>
              <a:latin typeface="Times New Roman"/>
            </a:endParaRPr>
          </a:p>
        </p:txBody>
      </p:sp>
      <p:pic>
        <p:nvPicPr>
          <p:cNvPr id="152" name="Picture 3" descr=""/>
          <p:cNvPicPr/>
          <p:nvPr/>
        </p:nvPicPr>
        <p:blipFill>
          <a:blip r:embed="rId1"/>
          <a:stretch/>
        </p:blipFill>
        <p:spPr>
          <a:xfrm>
            <a:off x="152280" y="1747800"/>
            <a:ext cx="8839440" cy="4353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ogic Gates</a:t>
            </a:r>
            <a:endParaRPr b="0" lang="en-US" sz="4400" spc="-1" strike="noStrike">
              <a:solidFill>
                <a:srgbClr val="000000"/>
              </a:solidFill>
              <a:latin typeface="Times New Roman"/>
            </a:endParaRPr>
          </a:p>
        </p:txBody>
      </p:sp>
      <p:sp>
        <p:nvSpPr>
          <p:cNvPr id="154" name=""/>
          <p:cNvSpPr txBox="1"/>
          <p:nvPr/>
        </p:nvSpPr>
        <p:spPr>
          <a:xfrm>
            <a:off x="152280" y="3809520"/>
            <a:ext cx="8839440" cy="26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bubble on signal (either input or output) means that signal must be LLV to produce indicated logic function. Likewise, lack of bubble means signal must be LHV to produce indicated fun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symbols on the top may be considered the primary symbols (mostly used in schemat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ose on the bottom may be considered the </a:t>
            </a:r>
            <a:r>
              <a:rPr b="1" lang="en-IE" sz="2000" spc="-1" strike="noStrike">
                <a:solidFill>
                  <a:srgbClr val="000000"/>
                </a:solidFill>
                <a:latin typeface="Times New Roman"/>
              </a:rPr>
              <a:t>conjugate symbols </a:t>
            </a:r>
            <a:r>
              <a:rPr b="0" lang="en-IE" sz="2000" spc="-1" strike="noStrike">
                <a:solidFill>
                  <a:srgbClr val="000000"/>
                </a:solidFill>
                <a:latin typeface="Times New Roman"/>
              </a:rPr>
              <a:t>(properly, each symbol is the conjugate of the other).</a:t>
            </a:r>
            <a:endParaRPr b="0" lang="en-US" sz="2000" spc="-1" strike="noStrike">
              <a:solidFill>
                <a:srgbClr val="000000"/>
              </a:solidFill>
              <a:latin typeface="Times New Roman"/>
            </a:endParaRPr>
          </a:p>
        </p:txBody>
      </p:sp>
      <p:pic>
        <p:nvPicPr>
          <p:cNvPr id="155" name="Picture 2" descr=""/>
          <p:cNvPicPr/>
          <p:nvPr/>
        </p:nvPicPr>
        <p:blipFill>
          <a:blip r:embed="rId1"/>
          <a:stretch/>
        </p:blipFill>
        <p:spPr>
          <a:xfrm>
            <a:off x="152280" y="1295280"/>
            <a:ext cx="8710560" cy="2171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ogic Circuits using Gates</a:t>
            </a:r>
            <a:endParaRPr b="0" lang="en-US" sz="4400" spc="-1" strike="noStrike">
              <a:solidFill>
                <a:srgbClr val="000000"/>
              </a:solidFill>
              <a:latin typeface="Times New Roman"/>
            </a:endParaRPr>
          </a:p>
        </p:txBody>
      </p:sp>
      <p:sp>
        <p:nvSpPr>
          <p:cNvPr id="157" name=""/>
          <p:cNvSpPr txBox="1"/>
          <p:nvPr/>
        </p:nvSpPr>
        <p:spPr>
          <a:xfrm>
            <a:off x="152280" y="3657600"/>
            <a:ext cx="8839440" cy="2819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ircuit schematic for any logic equation can be easily created by substituting logic gate symbols for logical operators, and by showing inputs as signal wires arriving at the logic g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ample: Implementing logic function  "F = (AB)' + C'B in two different ways</a:t>
            </a:r>
            <a:endParaRPr b="0" lang="en-US" sz="2400" spc="-1" strike="noStrike">
              <a:solidFill>
                <a:srgbClr val="000000"/>
              </a:solidFill>
              <a:latin typeface="Times New Roman"/>
            </a:endParaRPr>
          </a:p>
        </p:txBody>
      </p:sp>
      <p:pic>
        <p:nvPicPr>
          <p:cNvPr id="158" name="Picture 2" descr=""/>
          <p:cNvPicPr/>
          <p:nvPr/>
        </p:nvPicPr>
        <p:blipFill>
          <a:blip r:embed="rId1"/>
          <a:stretch/>
        </p:blipFill>
        <p:spPr>
          <a:xfrm>
            <a:off x="304920" y="1676520"/>
            <a:ext cx="8584920" cy="19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ading Logic Circuits</a:t>
            </a:r>
            <a:endParaRPr b="0" lang="en-US" sz="4400" spc="-1" strike="noStrike">
              <a:solidFill>
                <a:srgbClr val="000000"/>
              </a:solidFill>
              <a:latin typeface="Times New Roman"/>
            </a:endParaRPr>
          </a:p>
        </p:txBody>
      </p:sp>
      <p:sp>
        <p:nvSpPr>
          <p:cNvPr id="160" name=""/>
          <p:cNvSpPr txBox="1"/>
          <p:nvPr/>
        </p:nvSpPr>
        <p:spPr>
          <a:xfrm>
            <a:off x="152280" y="4114800"/>
            <a:ext cx="8839440" cy="2362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logic gate that drives the output signal defines the “major” logic operation, and it can be used to determine how other terms must be grouped in the equation.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n inverter, or an output bubble on a logic gate, requires that the inverted signal or function output be shown in the output of the “downstream” gat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bubble on the input of a logic gate can be thought of as an inverter on the signal leading to the gate</a:t>
            </a:r>
            <a:endParaRPr b="0" lang="en-US" sz="1600" spc="-1" strike="noStrike">
              <a:solidFill>
                <a:srgbClr val="000000"/>
              </a:solidFill>
              <a:latin typeface="Times New Roman"/>
            </a:endParaRPr>
          </a:p>
        </p:txBody>
      </p:sp>
      <p:pic>
        <p:nvPicPr>
          <p:cNvPr id="161" name="Picture 2" descr=""/>
          <p:cNvPicPr/>
          <p:nvPr/>
        </p:nvPicPr>
        <p:blipFill>
          <a:blip r:embed="rId1"/>
          <a:stretch/>
        </p:blipFill>
        <p:spPr>
          <a:xfrm>
            <a:off x="1447920" y="1447920"/>
            <a:ext cx="629604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tage</a:t>
            </a:r>
            <a:endParaRPr b="0" lang="en-US" sz="4400" spc="-1" strike="noStrike">
              <a:solidFill>
                <a:srgbClr val="000000"/>
              </a:solidFill>
              <a:latin typeface="Times New Roman"/>
            </a:endParaRPr>
          </a:p>
        </p:txBody>
      </p:sp>
      <p:sp>
        <p:nvSpPr>
          <p:cNvPr id="55" name=""/>
          <p:cNvSpPr txBox="1"/>
          <p:nvPr/>
        </p:nvSpPr>
        <p:spPr>
          <a:xfrm>
            <a:off x="152280" y="1371600"/>
            <a:ext cx="8839440" cy="51055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positive electric field around a group of protons will exert a repelling force on other groups of protons and an attracting force on groups of electrons.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ince an electric field can cause charged particles to move, it can do some amount of work, and so it is said to have </a:t>
            </a:r>
            <a:r>
              <a:rPr b="1" i="1" lang="en-IE" sz="2000" spc="-1" strike="noStrike">
                <a:solidFill>
                  <a:srgbClr val="000000"/>
                </a:solidFill>
                <a:latin typeface="Times New Roman"/>
              </a:rPr>
              <a:t>electrical potential energy</a:t>
            </a:r>
            <a:r>
              <a:rPr b="0" lang="en-IE"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The amount of energy an electric field can impart to unit of charge is measured in joules per coulomb, more commonly known as voltage.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Times New Roman"/>
              </a:rPr>
              <a:t>Voltage is used as a short name for electrical potential difference.</a:t>
            </a:r>
            <a:r>
              <a:rPr b="1" lang="en-IE"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Voltage is a way of using numbers to describe an electric field</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Voltage is the “electromotive force” that can cause charged particles to mo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ogic Circuits Optimizations</a:t>
            </a:r>
            <a:endParaRPr b="0" lang="en-US" sz="4400" spc="-1" strike="noStrike">
              <a:solidFill>
                <a:srgbClr val="000000"/>
              </a:solidFill>
              <a:latin typeface="Times New Roman"/>
            </a:endParaRPr>
          </a:p>
        </p:txBody>
      </p:sp>
      <p:sp>
        <p:nvSpPr>
          <p:cNvPr id="163" name=""/>
          <p:cNvSpPr txBox="1"/>
          <p:nvPr/>
        </p:nvSpPr>
        <p:spPr>
          <a:xfrm>
            <a:off x="152280" y="2819520"/>
            <a:ext cx="8839440" cy="3657600"/>
          </a:xfrm>
          <a:prstGeom prst="rect">
            <a:avLst/>
          </a:prstGeom>
          <a:noFill/>
          <a:ln w="0">
            <a:noFill/>
          </a:ln>
        </p:spPr>
        <p:txBody>
          <a:bodyPr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 “back-to-back” signal inversions cancel each other</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at is, if a signal is inverted, and immediately inverted again before it is used anywhere else, then the circuit would perform identically. </a:t>
            </a:r>
            <a:r>
              <a:rPr b="0" lang="en-IE" sz="2800" spc="-1" strike="noStrike">
                <a:solidFill>
                  <a:srgbClr val="000000"/>
                </a:solidFill>
                <a:latin typeface="Times New Roman"/>
              </a:rPr>
              <a:t>This observation can be used to simplify circuits, or to make them more efficient. </a:t>
            </a:r>
            <a:endParaRPr b="0" lang="en-US" sz="2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implification achieved by removing the two inverters on signal C, and made more efficient by adding inversions on internal nodes</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AND gates (at four transistors each) could be used instead of AND/OR gates (at six transistors each).</a:t>
            </a:r>
            <a:endParaRPr b="0" lang="en-US" sz="2000" spc="-1" strike="noStrike">
              <a:solidFill>
                <a:srgbClr val="000000"/>
              </a:solidFill>
              <a:latin typeface="Times New Roman"/>
            </a:endParaRPr>
          </a:p>
        </p:txBody>
      </p:sp>
      <p:pic>
        <p:nvPicPr>
          <p:cNvPr id="164" name="Picture 2" descr=""/>
          <p:cNvPicPr/>
          <p:nvPr/>
        </p:nvPicPr>
        <p:blipFill>
          <a:blip r:embed="rId1"/>
          <a:stretch/>
        </p:blipFill>
        <p:spPr>
          <a:xfrm>
            <a:off x="254160" y="1219320"/>
            <a:ext cx="8870760" cy="1752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66"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Times New Roman"/>
              </a:rPr>
              <a:t>"Real Digital - A hands-on approach to digital design“, </a:t>
            </a:r>
            <a:r>
              <a:rPr b="0" lang="en-IE" sz="3200" spc="-1" strike="noStrike">
                <a:solidFill>
                  <a:srgbClr val="000000"/>
                </a:solidFill>
                <a:latin typeface="Times New Roman"/>
              </a:rPr>
              <a:t>Clint Cole, http://www.digilentinc.com/classroom/realdigital/</a:t>
            </a:r>
            <a:br>
              <a:rPr sz="3200"/>
            </a:b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wer Supply</a:t>
            </a:r>
            <a:endParaRPr b="0" lang="en-US" sz="4400" spc="-1" strike="noStrike">
              <a:solidFill>
                <a:srgbClr val="000000"/>
              </a:solidFill>
              <a:latin typeface="Times New Roman"/>
            </a:endParaRPr>
          </a:p>
        </p:txBody>
      </p:sp>
      <p:sp>
        <p:nvSpPr>
          <p:cNvPr id="57"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power supply is a device containing imbalance of electr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ne side (the negative side) has material containing an abundance of electron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other side (positive side) has material containing a relative absence of electrons</a:t>
            </a:r>
            <a:r>
              <a:rPr b="0" lang="en-IE"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electrical potential energy available in the power supply, measured in volts, is determined by the number of electrons it can store, the separation distance between negative and positive materials, the properties of the barrier between the materials, and other factor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ome power supplies (like small batteries) output less than a volt, while others (like power generation stations) can output tens of thousands of vol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tance</a:t>
            </a:r>
            <a:endParaRPr b="0" lang="en-US" sz="4400" spc="-1" strike="noStrike">
              <a:solidFill>
                <a:srgbClr val="000000"/>
              </a:solidFill>
              <a:latin typeface="Times New Roman"/>
            </a:endParaRPr>
          </a:p>
        </p:txBody>
      </p:sp>
      <p:sp>
        <p:nvSpPr>
          <p:cNvPr id="59"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lectrons carry the smallest possible amount of negative charge, and billions of them are present in even the tiniest piece of matter.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sulators - electrons are held firmly in place by heavier, positively charged protons. Electrons cannot move freely between atom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ductors - electrons can move more easily from atom to ato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movement of electrons in a conductor is called </a:t>
            </a:r>
            <a:r>
              <a:rPr b="1" i="1" lang="en-IE" sz="2400" spc="-1" strike="noStrike">
                <a:solidFill>
                  <a:srgbClr val="000000"/>
                </a:solidFill>
                <a:latin typeface="Times New Roman"/>
              </a:rPr>
              <a:t>electric current</a:t>
            </a:r>
            <a:r>
              <a:rPr b="0" lang="en-IE" sz="2400" spc="-1" strike="noStrike">
                <a:solidFill>
                  <a:srgbClr val="000000"/>
                </a:solidFill>
                <a:latin typeface="Times New Roman"/>
              </a:rPr>
              <a:t>, measured in amper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a power supply is used to impress a voltage across a conductor, electrons will move from the negative side of the supply through the conductor towards the positive sid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ll materials, even conductors, exhibit some amount of </a:t>
            </a:r>
            <a:r>
              <a:rPr b="1" i="1" lang="en-IE" sz="2000" spc="-1" strike="noStrike">
                <a:solidFill>
                  <a:srgbClr val="000000"/>
                </a:solidFill>
                <a:latin typeface="Times New Roman"/>
              </a:rPr>
              <a:t>resistance</a:t>
            </a:r>
            <a:r>
              <a:rPr b="0" lang="en-IE" sz="2000" spc="-1" strike="noStrike">
                <a:solidFill>
                  <a:srgbClr val="000000"/>
                </a:solidFill>
                <a:latin typeface="Times New Roman"/>
              </a:rPr>
              <a:t> to the flow of electric current. The amount of resistance determines how much current can flow – the higher the resistance, the less current can flow.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61" name=""/>
          <p:cNvSpPr txBox="1"/>
          <p:nvPr/>
        </p:nvSpPr>
        <p:spPr>
          <a:xfrm>
            <a:off x="152280" y="1371600"/>
            <a:ext cx="86868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1825 Georg Ohm demonstrated through a series of experiments that voltage, current and resistance are related through a fundamental relationshi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Voltage (V) is equal to Current (I) times resistance (R), or V = I·R.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sistance is measured in ohms, with the symbol </a:t>
            </a:r>
            <a:r>
              <a:rPr b="0" lang="el-GR" sz="2400" spc="-1" strike="noStrike">
                <a:solidFill>
                  <a:srgbClr val="000000"/>
                </a:solidFill>
                <a:latin typeface="Times New Roman"/>
              </a:rPr>
              <a:t>Ω</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Picture 2" descr="C:\Documents and Settings\petronel\Desktop\OhmsLaw.JPG"/>
          <p:cNvPicPr/>
          <p:nvPr/>
        </p:nvPicPr>
        <p:blipFill>
          <a:blip r:embed="rId1"/>
          <a:stretch/>
        </p:blipFill>
        <p:spPr>
          <a:xfrm>
            <a:off x="457200" y="3673440"/>
            <a:ext cx="3286080" cy="2181240"/>
          </a:xfrm>
          <a:prstGeom prst="rect">
            <a:avLst/>
          </a:prstGeom>
          <a:ln w="0">
            <a:noFill/>
          </a:ln>
        </p:spPr>
      </p:pic>
      <p:sp>
        <p:nvSpPr>
          <p:cNvPr id="63" name="TextBox 4"/>
          <p:cNvSpPr/>
          <p:nvPr/>
        </p:nvSpPr>
        <p:spPr>
          <a:xfrm>
            <a:off x="3743280" y="3886200"/>
            <a:ext cx="517212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ne volt impressed across 1 ohm of resistance will cause 1 amp of current to flow (and one coulomb of charge will pass through the resistor in one second).</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imilarly, 3.3V impressed across 3.3</a:t>
            </a:r>
            <a:r>
              <a:rPr b="0" lang="el-GR" sz="2000" spc="-1" strike="noStrike">
                <a:solidFill>
                  <a:srgbClr val="000000"/>
                </a:solidFill>
                <a:latin typeface="Times New Roman"/>
              </a:rPr>
              <a:t> Ω</a:t>
            </a:r>
            <a:r>
              <a:rPr b="0" lang="en-IE" sz="2000" spc="-1" strike="noStrike">
                <a:solidFill>
                  <a:srgbClr val="000000"/>
                </a:solidFill>
                <a:latin typeface="Times New Roman"/>
              </a:rPr>
              <a:t> will cause 1A of current to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a:t>
            </a:r>
            <a:endParaRPr b="0" lang="en-US" sz="4400" spc="-1" strike="noStrike">
              <a:solidFill>
                <a:srgbClr val="000000"/>
              </a:solidFill>
              <a:latin typeface="Times New Roman"/>
            </a:endParaRPr>
          </a:p>
        </p:txBody>
      </p:sp>
      <p:sp>
        <p:nvSpPr>
          <p:cNvPr id="65"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llisions occur between the electrons flowing from the power supply and the materials in the resistor when current flows through.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se collisions cause electrons to give up their potential energy, and that energy is dissipated as heat.</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electric circuits, </a:t>
            </a:r>
            <a:r>
              <a:rPr b="1" i="1" lang="en-IE" sz="2400" spc="-1" strike="noStrike">
                <a:solidFill>
                  <a:srgbClr val="000000"/>
                </a:solidFill>
                <a:latin typeface="Times New Roman"/>
              </a:rPr>
              <a:t>power</a:t>
            </a:r>
            <a:r>
              <a:rPr b="0" lang="en-IE" sz="2400" spc="-1" strike="noStrike">
                <a:solidFill>
                  <a:srgbClr val="000000"/>
                </a:solidFill>
                <a:latin typeface="Times New Roman"/>
              </a:rPr>
              <a:t>, measured in </a:t>
            </a:r>
            <a:r>
              <a:rPr b="1" i="1" lang="en-IE" sz="2400" spc="-1" strike="noStrike">
                <a:solidFill>
                  <a:srgbClr val="000000"/>
                </a:solidFill>
                <a:latin typeface="Times New Roman"/>
              </a:rPr>
              <a:t>Watts</a:t>
            </a:r>
            <a:r>
              <a:rPr b="0" lang="en-IE" sz="2400" spc="-1" strike="noStrike">
                <a:solidFill>
                  <a:srgbClr val="000000"/>
                </a:solidFill>
                <a:latin typeface="Times New Roman"/>
              </a:rPr>
              <a:t>, is defined as (voltage x current) or P = V·I.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power transferred to the resistor at any given time results in resistor heating. The more power transferred to the resistor, the hotter it get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or a given voltage, a smaller-valued resistor would allow more current to flow (see Ohm’s law), and therefore more energy would be dissipated as heat (and the resistor would get hott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nergy</a:t>
            </a:r>
            <a:endParaRPr b="0" lang="en-US" sz="4400" spc="-1" strike="noStrike">
              <a:solidFill>
                <a:srgbClr val="000000"/>
              </a:solidFill>
              <a:latin typeface="Times New Roman"/>
            </a:endParaRPr>
          </a:p>
        </p:txBody>
      </p:sp>
      <p:sp>
        <p:nvSpPr>
          <p:cNvPr id="67"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total </a:t>
            </a:r>
            <a:r>
              <a:rPr b="1" i="1" lang="en-IE" sz="2400" spc="-1" strike="noStrike">
                <a:solidFill>
                  <a:srgbClr val="000000"/>
                </a:solidFill>
                <a:latin typeface="Times New Roman"/>
              </a:rPr>
              <a:t>energy</a:t>
            </a:r>
            <a:r>
              <a:rPr b="0" lang="en-IE" sz="2400" spc="-1" strike="noStrike">
                <a:solidFill>
                  <a:srgbClr val="000000"/>
                </a:solidFill>
                <a:latin typeface="Times New Roman"/>
              </a:rPr>
              <a:t> consumed in an electric circuit is simply the time integral of power, measured in Watts per second, or </a:t>
            </a:r>
            <a:r>
              <a:rPr b="1" i="1" lang="en-IE" sz="2400" spc="-1" strike="noStrike">
                <a:solidFill>
                  <a:srgbClr val="000000"/>
                </a:solidFill>
                <a:latin typeface="Times New Roman"/>
              </a:rPr>
              <a:t>Joules</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us, in the circuit below, the electric power delivered to the resistor is P = 3.3V x 1A, or 3.3Watts and in one second, 3.3W x 1second or 3.3J of energy is dissip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Picture 2" descr="C:\Documents and Settings\petronel\Desktop\OhmsLaw.JPG"/>
          <p:cNvPicPr/>
          <p:nvPr/>
        </p:nvPicPr>
        <p:blipFill>
          <a:blip r:embed="rId1"/>
          <a:stretch/>
        </p:blipFill>
        <p:spPr>
          <a:xfrm>
            <a:off x="457200" y="3673440"/>
            <a:ext cx="3286080" cy="21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bigioi</dc:creator>
  <dc:description/>
  <dc:language>en-US</dc:language>
  <cp:lastModifiedBy>pbigioi</cp:lastModifiedBy>
  <dcterms:modified xsi:type="dcterms:W3CDTF">2014-01-12T20:38:15Z</dcterms:modified>
  <cp:revision>172</cp:revision>
  <dc:subject/>
  <dc:title>PowerPoint Presentation</dc:title>
</cp:coreProperties>
</file>