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2CCEA-D812-429C-916D-5074808743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501EC-8957-4C07-8B67-11029AE389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DAA04-A3E7-4A6C-B7BE-C883E0408D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AC792-985D-448C-A093-674A098F5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D218D-4234-4441-9990-9E3E33CAF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5980D-4D0F-4228-AA9B-A247F9F1C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EB0E4-E729-421A-ADEF-2842D4DAB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33D88-43A8-4233-8C12-5F98520A9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99F13-5849-4F23-B9AB-9A30C53BD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62C5B-5B94-4D1B-BDC0-F6916CB8E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A3C77-CFFB-4840-93A3-11894807D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8CF7C-D91C-4A52-8D90-4BB242CCC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614D6-EDA8-40C2-B563-BB45832DE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61355-B03E-4AF6-8AEE-065D30D86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3B9FD-D7EE-4A1A-B9A1-5BC36F46D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016A6-816A-4625-B6D6-8F62F69EFA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T213: Computing Systems Organization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r. Petronel Bigio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Course schedule:</a:t>
            </a: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Tuesday 3 – 4 pm, 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IT 125G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Tuesday 5– 6 pm, </a:t>
            </a:r>
            <a:r>
              <a:rPr b="1" lang="en-IE" sz="2400" spc="-1" strike="noStrike">
                <a:solidFill>
                  <a:srgbClr val="000000"/>
                </a:solidFill>
                <a:latin typeface="Times New Roman"/>
              </a:rPr>
              <a:t>AC215</a:t>
            </a:r>
            <a:r>
              <a:rPr b="1" lang="en-I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Course material:</a:t>
            </a: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de-DE" sz="3200" spc="-1" strike="noStrike">
                <a:solidFill>
                  <a:srgbClr val="000000"/>
                </a:solidFill>
                <a:latin typeface="Times New Roman"/>
              </a:rPr>
              <a:t>http://ww2.it.nuigalway.ie/staff/pbigioi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Textbooks:</a:t>
            </a: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Digital Design and Computer Architecture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(Second Edition)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David Harris &amp; Sarah Harris, ISBN: 978-0-12-394424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Computer Systems Organization &amp; Architecture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, John D. Carpinelli, ISBN: 0-201-61253-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Computer Architecture: A Quantitive Approch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, John L Hennessy and David A. Patterson, ISBN: 1-55860-329-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Lab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Wednesday 6 to 8 PM, IT102 Lab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Thursday 6 to 8 PM, IT 102 La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Starting: to be advi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ARM Processor Programming &amp; Operating system programming (Linu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arking schem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0 % Final Ex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 % Lab work and assign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ttendanc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required for both labs and clas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urse 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Computer Systems &amp; CPU Re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ARM Processor Overview &amp; Zynq FPGA Platfo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System software and Operating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Kernel - process management, scheduling, inter-process synchronization and commun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Memory Mana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/O Mana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File Mana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ronel Bigioi</cp:lastModifiedBy>
  <dcterms:modified xsi:type="dcterms:W3CDTF">2015-09-27T20:43:08Z</dcterms:modified>
  <cp:revision>38</cp:revision>
  <dc:subject/>
  <dc:title>PowerPoint Presentation</dc:title>
</cp:coreProperties>
</file>