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DD0D1-0CDC-4FEF-AF8E-0B3895311B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07FDD-0937-43F2-8B65-32F01F4353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8B0CB-1B92-42C5-A3C1-8E3FEBF11F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871B9-9144-48DA-8FF7-49D33D2EC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816A6-D5DF-4FCE-B3BD-6D66B2C05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619E6-C141-4CEC-BE40-2F71E0A1D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EA7E5-391A-41B4-9117-D93BF9E7B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CF7B8-CDEA-4247-A1E4-B7FE11B96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E1AAE-6C59-4DFC-AD75-8022A2A0C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7E6E8-5ADA-4B8A-9D13-1EC8D16D3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5A766-8A20-483E-B114-EF7F539F1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630C9-A5B8-4310-AAA9-BA1CC37B5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CC0DE-AF22-422E-8093-37A241621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0F1AD-720F-4331-B0C9-38B90533F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1ADFE-4921-4364-9E41-389FEF3E5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19BC7-9B9E-4E45-9955-01FF2ED815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T213: Computing Systems Organization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r. Petronel Bigio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Course schedule: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Tuesday 3 – 4 pm, 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IT 125G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Tuesday 5– 6 pm, </a:t>
            </a:r>
            <a:r>
              <a:rPr b="1" lang="en-IE" sz="2400" spc="-1" strike="noStrike">
                <a:solidFill>
                  <a:srgbClr val="000000"/>
                </a:solidFill>
                <a:latin typeface="Times New Roman"/>
              </a:rPr>
              <a:t>AC215</a:t>
            </a:r>
            <a:r>
              <a:rPr b="1" lang="en-I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Course material: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de-DE" sz="3200" spc="-1" strike="noStrike">
                <a:solidFill>
                  <a:srgbClr val="000000"/>
                </a:solidFill>
                <a:latin typeface="Times New Roman"/>
              </a:rPr>
              <a:t>http://ww2.it.nuigalway.ie/staff/pbigioi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Textbooks: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Digital Design and Computer Architecture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(Second Edition)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David Harris &amp; Sarah Harris, ISBN: 978-0-12-394424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Computer Systems Organization &amp; Architecture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, John D. Carpinelli, ISBN: 0-201-61253-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Computer Architecture: A Quantitive Approch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, John L Hennessy and David A. Patterson, ISBN: 1-55860-329-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Lab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Wednesday 6 to 8 PM, IT102 Lab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Thursday 6 to 8 PM, IT 102 L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Starting: to be advi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RM Processor Programming &amp; Operating system programming (Linu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rking schem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0 % Final Ex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 % Lab work and assign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ttendan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required for both labs and cla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urse 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Computer Systems &amp; CPU Re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ARM Processor Overview &amp; Zynq FPGA Platf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System software and Operating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Kernel - process management, scheduling, inter-process synchronization and commun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Memory Mana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/O Mana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File Mana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ronel Bigioi</cp:lastModifiedBy>
  <dcterms:modified xsi:type="dcterms:W3CDTF">2015-09-27T20:43:08Z</dcterms:modified>
  <cp:revision>38</cp:revision>
  <dc:subject/>
  <dc:title>PowerPoint Presentation</dc:title>
</cp:coreProperties>
</file>