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BE6B-BEB6-4FD5-94CD-9AB612B9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45320"/>
            <a:ext cx="8763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FFE-BD16-4162-AFD1-E36757AC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880" y="121932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4532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880" y="404532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958F-BC89-4E93-818C-E8DB22AD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821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1400" y="1219320"/>
            <a:ext cx="2821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4200" y="1219320"/>
            <a:ext cx="2821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45320"/>
            <a:ext cx="2821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1400" y="4045320"/>
            <a:ext cx="2821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4200" y="4045320"/>
            <a:ext cx="2821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913D-6218-481E-B7A1-777745DA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9C36-AED2-4067-A635-FF044B73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3EE5-1628-4249-97ED-4949A5C0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7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880" y="1219320"/>
            <a:ext cx="427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4C9F-70B9-4124-A622-B22B3B79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A9EF-B708-4F92-B8BF-D5F3C206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6FAA-EAF3-44A4-A0A3-7CA23502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219320"/>
            <a:ext cx="427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4532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675F-E6FF-4E5E-8BC7-9547F189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7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880" y="121932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880" y="404532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FB31-E829-417C-A3CC-AC47A291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880" y="121932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45320"/>
            <a:ext cx="8763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FB5C-54BB-4602-89AC-811A8362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9D2E-5537-42F2-8A57-18D1D1FC4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PU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T213 – Computing Systems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ing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CFS (First Come First Serv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RTN (Shortest Remaining Time Next)/ SJF Shortest Job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slice (Round Rob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based preemptive schedu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LQ (Multiple Level Queu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LQF (Multiple Level Queue with Feedba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Come First Ser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preemptive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cheduling strategy assigns priority to processes in the order in which they request the proc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ority of a process is computed by the enqueuer by time stamping all incoming processes and then having the dispatcher to select the process that has the oldest time 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 implementation consists of having the ready list organized as a FIFO data structure (where each entry points to a process descriptor); the enqueuer adds processes to the tail of the queue and the dispatcher removes processes from the head of the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imp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not widely used, because the turn around time and the waiting time for a given process are not predict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CF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350532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turn around ti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R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350 +475 +950 + 1200 + 1275)/5 = 8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wait ti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= (0 + 350 +475 + 950 + 1200)/5 = 5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04920" y="1523880"/>
          <a:ext cx="1904760" cy="1768680"/>
        </p:xfrm>
        <a:graphic>
          <a:graphicData uri="http://schemas.openxmlformats.org/drawingml/2006/table">
            <a:tbl>
              <a:tblPr/>
              <a:tblGrid>
                <a:gridCol w="914400"/>
                <a:gridCol w="99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Object 39"/>
          <p:cNvGraphicFramePr/>
          <p:nvPr/>
        </p:nvGraphicFramePr>
        <p:xfrm>
          <a:off x="2362320" y="1523880"/>
          <a:ext cx="525780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523880"/>
                    <a:ext cx="52578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41"/>
          <p:cNvSpPr/>
          <p:nvPr/>
        </p:nvSpPr>
        <p:spPr>
          <a:xfrm>
            <a:off x="7671240" y="1447920"/>
            <a:ext cx="102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Rnd(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rtest Job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on-preemptive and preemptive var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n optimal algorithm from the point of view of average turn around time; it minimizes the average turn aroun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ential service of short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requires the knowledge of the service time for each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extreme case, where the system has little idle time, the processes with large service time will never be 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case where it is not possible to know the service time for each process, this is estimated using predi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a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(1-a)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previous servic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previous predi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is within [0,1] 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a = 1 then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igno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dependent upon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process 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JF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350532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turn around ti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R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800 + 200 +1275 + 450 + 75)/5 = 5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wait ti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= (450 + 75 +800 + 200 + 0)/5 = 3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2438280" y="1828800"/>
          <a:ext cx="457200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828800"/>
                    <a:ext cx="45720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28600" y="762120"/>
          <a:ext cx="1905120" cy="1768320"/>
        </p:xfrm>
        <a:graphic>
          <a:graphicData uri="http://schemas.openxmlformats.org/drawingml/2006/table">
            <a:tbl>
              <a:tblPr/>
              <a:tblGrid>
                <a:gridCol w="914400"/>
                <a:gridCol w="990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28"/>
          <p:cNvSpPr/>
          <p:nvPr/>
        </p:nvSpPr>
        <p:spPr>
          <a:xfrm>
            <a:off x="7137720" y="1600200"/>
            <a:ext cx="102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Rnd(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slice (Round Rob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emptive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cess gets a time slice of CPU time, distributing the processing time equitably among all processes requesting the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he time slice expires, the control of the CPU is given to the next process in the ready list; the process being switched is placed back into the ready process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mplies the existence of a specialized timer that measures the processor time for each process; every time a process becomes active, the timer is initi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well suited for long jobs, since the scheduler will be called multiple times until the job is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very sensitive to the size of the time s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 big – large delays in response time for interactive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 small – too much time spent running the schedu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big – turns into FC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me slice size is determined by analyzing the number of the instructions that the processor can execute in the give time sl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slice (Round Robin)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3580920"/>
            <a:ext cx="87631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turn around ti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R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1100 + 550 + 1275  + 950 + 475)/5 = 8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wait ti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= (0 + 50 + 100 + 150 + 200)/5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ait time shows the benefit of RR algorithm in the terms of how quickly a process receives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04920" y="1143000"/>
          <a:ext cx="1904760" cy="1768320"/>
        </p:xfrm>
        <a:graphic>
          <a:graphicData uri="http://schemas.openxmlformats.org/drawingml/2006/table">
            <a:tbl>
              <a:tblPr/>
              <a:tblGrid>
                <a:gridCol w="914400"/>
                <a:gridCol w="99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Object 27"/>
          <p:cNvGraphicFramePr/>
          <p:nvPr/>
        </p:nvGraphicFramePr>
        <p:xfrm>
          <a:off x="2362320" y="1143000"/>
          <a:ext cx="6476760" cy="12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143000"/>
                    <a:ext cx="647676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28"/>
          <p:cNvSpPr/>
          <p:nvPr/>
        </p:nvSpPr>
        <p:spPr>
          <a:xfrm>
            <a:off x="2446200" y="243828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lice size is 50, negligible amount of time for context 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R scheduling with overhead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3352680"/>
            <a:ext cx="8763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turn around ti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R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1320 + 660 + 1535  + 1140 + 565)/5 = 10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wait ti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= (0 + 60 + 120 + 180 + 240)/5 = 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04920" y="1143000"/>
          <a:ext cx="1904760" cy="1768320"/>
        </p:xfrm>
        <a:graphic>
          <a:graphicData uri="http://schemas.openxmlformats.org/drawingml/2006/table">
            <a:tbl>
              <a:tblPr/>
              <a:tblGrid>
                <a:gridCol w="914400"/>
                <a:gridCol w="99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74"/>
          <p:cNvSpPr/>
          <p:nvPr/>
        </p:nvSpPr>
        <p:spPr>
          <a:xfrm>
            <a:off x="2446200" y="236232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lice size is 50, 10 units of time for context 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75"/>
          <p:cNvGraphicFramePr/>
          <p:nvPr/>
        </p:nvGraphicFramePr>
        <p:xfrm>
          <a:off x="2362320" y="1143000"/>
          <a:ext cx="647676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143000"/>
                    <a:ext cx="64767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ority based scheduling (Event Driv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preemptive and non-preemptive vari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rocess has an externally assigned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time an event occurs, that generates process switch, the process with the highest priority is chosen from the ready process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the possibility that processes with low priority will never gain CPU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variants with static and dynamic priorities; the dynamic priority computation solves the problem with processes that may never gain CPU time (the longer the process waits, the higher its priority becom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used for real tim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ority based schedu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3733560"/>
            <a:ext cx="8763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turn around ti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R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350 + 425 + 900  + 1025 + 1275)/5 = 7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wait ti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= (0 + 350 + 425 + 900 + 1025)/5 = 5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280" y="1143000"/>
          <a:ext cx="2895840" cy="1768320"/>
        </p:xfrm>
        <a:graphic>
          <a:graphicData uri="http://schemas.openxmlformats.org/drawingml/2006/table">
            <a:tbl>
              <a:tblPr/>
              <a:tblGrid>
                <a:gridCol w="914400"/>
                <a:gridCol w="990720"/>
                <a:gridCol w="990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ori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Object 41"/>
          <p:cNvGraphicFramePr/>
          <p:nvPr/>
        </p:nvGraphicFramePr>
        <p:xfrm>
          <a:off x="3276720" y="2057400"/>
          <a:ext cx="5638680" cy="8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057400"/>
                    <a:ext cx="563868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42"/>
          <p:cNvSpPr/>
          <p:nvPr/>
        </p:nvSpPr>
        <p:spPr>
          <a:xfrm>
            <a:off x="3294720" y="1219320"/>
            <a:ext cx="56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st priority corresponds to highes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scheduler organ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r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preemp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emptiv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ing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FS (First Come First Serv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TN (Shortest Remaining Time Next)/ SJF Shortest Job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lice (Round Rob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 based preemptive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LQ (Multiple Level Que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LQF (Multiple Level Queue with Feedb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SD Unix schedu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Level Queue schedul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 systems have requirements for real time, interactive users and batch jobs, therefore a combined scheduling mechanism should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sses are divided in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lass has a process queue, and it has assigned a specific scheduling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rocess queue is treated according to a queue scheduling algorith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queue has assigned a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long as there are processes in a higher priority queue, those will be servi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LQ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7631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que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ground processes (highest prior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ground processes (lowest prior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que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 processes and interrupts (highest priority, serviced 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active processes (medium priority, serviced R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tch jobs (lowest priority, serviced FCF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1295280" y="838080"/>
          <a:ext cx="6705720" cy="36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838080"/>
                    <a:ext cx="670572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Level Queue with feed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with MLQ, but the processes could migrate from class to class in a dynamic fash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strategies to modify the prior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the priority for a given process during the compute intensive paths (in the idea to that the user needs larger share of the CPU to sustain acceptable serv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 the priority for a given process during the compute intensive paths (in the idea that the user process is trying to get more CPU share, which may impact on the other us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process is giving the CPU before its time slice expires, then the process is assigned to a higher priority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the evolution to completion, a process may go through a number of different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of the previous algorithms may be used for treating a specific process cla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actical example: BSD UNIX schedu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LQ with feedback approach – 32 run que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through 7 for system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through 31 for processes executing in user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patcher selects a process from the queue with highest priority; within a queue, RR is used, therefore only processes in highest priority queue can execute; the time slice is less than 100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rocess has an external priority (used to influence, but not solely determine the queue where the process will be placed after cre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eep routine has the same effect as a yield instruction; when called from a process, the scheduler is called to dispatch a new process; otherwise the scheduler is called as result of a trap instruction execution or the occurrence of an inter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ng Systems – A modern perspective”, Garry Nutt, ISBN 0-8053-1295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mechanism, part of the process manager, that handles the removal of the running process from the CPU and the selection of another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lection of another process is based on a particular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responsible for multiplexing processes on the CPU; when is the time for the running process to be removed from the CPU (in a ready or suspended state), a different process is selected from the set of process in the read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etermin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rocess is removed and w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cess takes the control of the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chan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rocess manager knows it is the time to remove the current process and how a process is allocated/de-allocated from the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r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4191120"/>
            <a:ext cx="8763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a process is changed in the ready state,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nqueu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laces a pointer to the process descriptor into a ready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text switc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aves the content of all processor registers of the process being removed into the process’ descriptor, whenever the scheduler switches the CPU from executing a process to executing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luntary context swit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voluntary context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invoked after the current process has been removed from the CPU; the dispatcher chooses one of the processes enqueued in the ready list and then allocates CPU to that process by performing another context switch from itself to the selected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5"/>
          <p:cNvGraphicFramePr/>
          <p:nvPr/>
        </p:nvGraphicFramePr>
        <p:xfrm>
          <a:off x="685800" y="914400"/>
          <a:ext cx="7848720" cy="30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784872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r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oper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cheduler (voluntary CPU sha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cess will periodically invoke the process scheduler, voluntarily sharing the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cess should call a function that will implement the process schedul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ie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(sometime implemented as an instruction in hardware), where 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identifier of the current process and the 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identifier of the next pro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emp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cheduler (involuntary CPU sha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rrupt system enforces periodic involuntary interruption of any process’s execution; it can force a process to involuntarily execute a yield type function (or instru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done by incorporating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val t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vice that produces an interrupt whenever the time exp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perative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57150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probl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processes are not voluntarily cooperate with the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process could keep the process for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4"/>
          <p:cNvGraphicFramePr/>
          <p:nvPr/>
        </p:nvGraphicFramePr>
        <p:xfrm>
          <a:off x="1295280" y="1219320"/>
          <a:ext cx="6400800" cy="43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19320"/>
                    <a:ext cx="6400800" cy="43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emptive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3581280"/>
            <a:ext cx="8763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mable interval timer will cause an interrupt to run every K clock tics of an interval timer, thus causing the hardware to execute the logical equivalent of a yield instruction to invoke the interrupt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rrupt handler for the timer interrupt will call the scheduler to reschedule the processor without any action on the part of the runn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r is guaranteed to be invoked once every K clock ti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if a given process will execute an infinite loop, it will not block the execution of the other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62120" y="1600200"/>
            <a:ext cx="3429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valTimer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ruptCount = InterrptCount 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InterruptCount &lt;=0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ruptRequest = TR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ruptCount = 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648320" y="160020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tInterval(&lt;programableValue&gt;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 = prgrammableVal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ruptCount = 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ing a set of processes P={pi, 0&lt;=i&lt;n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time,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he amount of time a process needs to be in active/running state before comp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 time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p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he time the process waits in the ready state before its first transition in the active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around tim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R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he amount of time between the moment a process enters the ready state and the moment the process exits the running state for the last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se elements are used to measure the performance of each scheduling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 preemptive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any process to run to completion once it has been allocated the control of the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cess that gets the control of the CPU, releases the CPU whenever it ends or when it voluntarily give the control of the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emptive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ighest priority process among all ready processes is allocated the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wer priority processes are made to yield to the highest priority process whenever requests the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cheduler is called every time a process enters the ready queue as well as when an interval timer expires and a time quantum has elap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allows for equitable resource sharing among processes at the expense of overloading the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2-17T13:38:56Z</dcterms:modified>
  <cp:revision>38</cp:revision>
  <dc:subject/>
  <dc:title>PowerPoint Presentation</dc:title>
</cp:coreProperties>
</file>